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D2D-29A2-44C2-B25B-9A280782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844-71DE-476C-8A6A-8F85ED5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3AB-665A-461B-B9EF-BCE053ED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242-7FC4-4B53-A6FF-CE670321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F877-FFC2-4F7A-9B1F-F4F514C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23C-F094-470B-88BB-970A985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A8FF-48B8-4CD1-B40C-C20C8CE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B748-2ECC-4860-8DA9-91A6B6BA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FCA-9C54-48A2-9584-0086E96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C1EE-BC7E-41E1-B018-34E4EE6A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AB27-19D1-47F4-96A5-6577C54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369-F3B4-4F56-A2FC-0CBDCBD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3207-1436-4358-9423-BCCA026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ACE-CA25-471C-94C2-C716115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F130-C00F-4A57-995E-7EA61D9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9FC0-43B1-4DC5-AB2A-0B67A6B5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33E-1C8B-4A83-85E4-41DD1766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5E8-ADAB-46CC-BD9E-E31EB4B1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BFC-5142-4123-A5B8-AE2B927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13A-A01C-419A-BBD9-E3AE00F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4C1-CCE7-49AC-A068-B8D3312A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DC7-FC08-4019-925B-3B3C0150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DDC-4924-4CB4-B58D-367EC89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3A0-FE81-4DC1-9FC4-2B76BB6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0EF-844A-4BB0-AA0C-1DFAAB0DD6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4D9-12DF-4602-9A13-1E8E2A46C1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Solve the expressions below using d = 3.8, e = 13.03 and f = 9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d + 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f - d + 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e - f + 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) e + 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455840" y="1812960"/>
            <a:ext cx="1009440" cy="54000"/>
          </a:xfrm>
          <a:custGeom>
            <a:avLst/>
            <a:gdLst/>
            <a:ahLst/>
            <a:rect l="l" t="t" r="r" b="b"/>
            <a:pathLst>
              <a:path w="2804" h="150">
                <a:moveTo>
                  <a:pt x="4043" y="5184"/>
                </a:moveTo>
                <a:lnTo>
                  <a:pt x="4043" y="5184"/>
                </a:lnTo>
              </a:path>
              <a:path w="2804" h="150">
                <a:moveTo>
                  <a:pt x="6846" y="5060"/>
                </a:moveTo>
                <a:cubicBezTo>
                  <a:pt x="6846" y="5052"/>
                  <a:pt x="6846" y="5043"/>
                  <a:pt x="6846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03200" y="1704960"/>
            <a:ext cx="98640" cy="196920"/>
          </a:xfrm>
          <a:custGeom>
            <a:avLst/>
            <a:gdLst/>
            <a:ahLst/>
            <a:rect l="l" t="t" r="r" b="b"/>
            <a:pathLst>
              <a:path w="274" h="546">
                <a:moveTo>
                  <a:pt x="3671" y="4787"/>
                </a:moveTo>
                <a:cubicBezTo>
                  <a:pt x="3737" y="4765"/>
                  <a:pt x="3774" y="4750"/>
                  <a:pt x="3845" y="4738"/>
                </a:cubicBezTo>
                <a:cubicBezTo>
                  <a:pt x="3890" y="4885"/>
                  <a:pt x="3847" y="4923"/>
                  <a:pt x="3746" y="5035"/>
                </a:cubicBezTo>
                <a:cubicBezTo>
                  <a:pt x="3790" y="4948"/>
                  <a:pt x="3875" y="4991"/>
                  <a:pt x="3894" y="5085"/>
                </a:cubicBezTo>
                <a:cubicBezTo>
                  <a:pt x="3931" y="5274"/>
                  <a:pt x="3800" y="5270"/>
                  <a:pt x="3671" y="5259"/>
                </a:cubicBezTo>
                <a:cubicBezTo>
                  <a:pt x="3654" y="5259"/>
                  <a:pt x="3638" y="5259"/>
                  <a:pt x="3621" y="52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4760" y="1714680"/>
            <a:ext cx="90360" cy="179280"/>
          </a:xfrm>
          <a:custGeom>
            <a:avLst/>
            <a:gdLst/>
            <a:ahLst/>
            <a:rect l="l" t="t" r="r" b="b"/>
            <a:pathLst>
              <a:path w="249" h="498">
                <a:moveTo>
                  <a:pt x="4514" y="4787"/>
                </a:moveTo>
                <a:cubicBezTo>
                  <a:pt x="4497" y="4734"/>
                  <a:pt x="4362" y="4757"/>
                  <a:pt x="4316" y="4787"/>
                </a:cubicBezTo>
                <a:cubicBezTo>
                  <a:pt x="4308" y="4804"/>
                  <a:pt x="4299" y="4820"/>
                  <a:pt x="4291" y="4837"/>
                </a:cubicBezTo>
                <a:cubicBezTo>
                  <a:pt x="4319" y="4975"/>
                  <a:pt x="4479" y="4986"/>
                  <a:pt x="4539" y="5110"/>
                </a:cubicBezTo>
                <a:cubicBezTo>
                  <a:pt x="4539" y="5194"/>
                  <a:pt x="4552" y="5221"/>
                  <a:pt x="4490" y="5234"/>
                </a:cubicBezTo>
                <a:cubicBezTo>
                  <a:pt x="4358" y="5234"/>
                  <a:pt x="4356" y="5160"/>
                  <a:pt x="4415" y="5035"/>
                </a:cubicBezTo>
                <a:cubicBezTo>
                  <a:pt x="4464" y="4930"/>
                  <a:pt x="4493" y="4922"/>
                  <a:pt x="4465" y="4837"/>
                </a:cubicBezTo>
                <a:cubicBezTo>
                  <a:pt x="4465" y="4829"/>
                  <a:pt x="4465" y="4820"/>
                  <a:pt x="4465" y="48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93960" y="1751040"/>
            <a:ext cx="125280" cy="12384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358" y="4862"/>
                </a:moveTo>
                <a:cubicBezTo>
                  <a:pt x="5358" y="4978"/>
                  <a:pt x="5358" y="5093"/>
                  <a:pt x="5358" y="5209"/>
                </a:cubicBezTo>
              </a:path>
              <a:path w="348" h="348">
                <a:moveTo>
                  <a:pt x="5259" y="5110"/>
                </a:moveTo>
                <a:cubicBezTo>
                  <a:pt x="5338" y="5061"/>
                  <a:pt x="5439" y="5081"/>
                  <a:pt x="5531" y="5060"/>
                </a:cubicBezTo>
                <a:cubicBezTo>
                  <a:pt x="5572" y="5040"/>
                  <a:pt x="5578" y="5031"/>
                  <a:pt x="5606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8000" y="1677960"/>
            <a:ext cx="206280" cy="1890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6052" y="4787"/>
                </a:moveTo>
                <a:cubicBezTo>
                  <a:pt x="6069" y="4921"/>
                  <a:pt x="6094" y="5049"/>
                  <a:pt x="6102" y="5184"/>
                </a:cubicBezTo>
              </a:path>
              <a:path w="572" h="522">
                <a:moveTo>
                  <a:pt x="6226" y="4738"/>
                </a:moveTo>
                <a:cubicBezTo>
                  <a:pt x="6262" y="4701"/>
                  <a:pt x="6427" y="4621"/>
                  <a:pt x="6499" y="4688"/>
                </a:cubicBezTo>
                <a:cubicBezTo>
                  <a:pt x="6547" y="4733"/>
                  <a:pt x="6444" y="4836"/>
                  <a:pt x="6424" y="4862"/>
                </a:cubicBezTo>
                <a:cubicBezTo>
                  <a:pt x="6416" y="4862"/>
                  <a:pt x="6408" y="4862"/>
                  <a:pt x="6400" y="4862"/>
                </a:cubicBezTo>
                <a:cubicBezTo>
                  <a:pt x="6476" y="4862"/>
                  <a:pt x="6608" y="4850"/>
                  <a:pt x="6623" y="4961"/>
                </a:cubicBezTo>
                <a:cubicBezTo>
                  <a:pt x="6646" y="5137"/>
                  <a:pt x="6496" y="5104"/>
                  <a:pt x="6400" y="5085"/>
                </a:cubicBezTo>
                <a:cubicBezTo>
                  <a:pt x="6392" y="5085"/>
                  <a:pt x="6383" y="5085"/>
                  <a:pt x="6375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7200" y="1697040"/>
            <a:ext cx="268560" cy="152280"/>
          </a:xfrm>
          <a:custGeom>
            <a:avLst/>
            <a:gdLst/>
            <a:ahLst/>
            <a:rect l="l" t="t" r="r" b="b"/>
            <a:pathLst>
              <a:path w="745" h="423">
                <a:moveTo>
                  <a:pt x="7119" y="4762"/>
                </a:moveTo>
                <a:cubicBezTo>
                  <a:pt x="7067" y="4661"/>
                  <a:pt x="7021" y="4998"/>
                  <a:pt x="7020" y="5011"/>
                </a:cubicBezTo>
                <a:cubicBezTo>
                  <a:pt x="7020" y="5044"/>
                  <a:pt x="7020" y="5077"/>
                  <a:pt x="7020" y="5110"/>
                </a:cubicBezTo>
                <a:cubicBezTo>
                  <a:pt x="7128" y="5143"/>
                  <a:pt x="7317" y="5132"/>
                  <a:pt x="7317" y="4961"/>
                </a:cubicBezTo>
                <a:cubicBezTo>
                  <a:pt x="7317" y="4874"/>
                  <a:pt x="7228" y="4825"/>
                  <a:pt x="7169" y="4787"/>
                </a:cubicBezTo>
              </a:path>
              <a:path w="745" h="423">
                <a:moveTo>
                  <a:pt x="7466" y="4787"/>
                </a:moveTo>
                <a:cubicBezTo>
                  <a:pt x="7518" y="4748"/>
                  <a:pt x="7573" y="4722"/>
                  <a:pt x="7640" y="4713"/>
                </a:cubicBezTo>
                <a:cubicBezTo>
                  <a:pt x="7648" y="4713"/>
                  <a:pt x="7657" y="4713"/>
                  <a:pt x="7665" y="4713"/>
                </a:cubicBezTo>
                <a:cubicBezTo>
                  <a:pt x="7657" y="4780"/>
                  <a:pt x="7647" y="4833"/>
                  <a:pt x="7590" y="4862"/>
                </a:cubicBezTo>
                <a:cubicBezTo>
                  <a:pt x="7640" y="4862"/>
                  <a:pt x="7751" y="4864"/>
                  <a:pt x="7764" y="4936"/>
                </a:cubicBezTo>
                <a:cubicBezTo>
                  <a:pt x="7774" y="4994"/>
                  <a:pt x="7615" y="5150"/>
                  <a:pt x="7565" y="5085"/>
                </a:cubicBezTo>
                <a:cubicBezTo>
                  <a:pt x="7565" y="5068"/>
                  <a:pt x="7565" y="5052"/>
                  <a:pt x="7565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87800" y="2205000"/>
            <a:ext cx="936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8880" y="6127"/>
                </a:moveTo>
                <a:cubicBezTo>
                  <a:pt x="8880" y="6223"/>
                  <a:pt x="8920" y="6481"/>
                  <a:pt x="8855" y="65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785960"/>
            <a:ext cx="206280" cy="23328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9103" y="5085"/>
                </a:moveTo>
                <a:cubicBezTo>
                  <a:pt x="9127" y="5260"/>
                  <a:pt x="9153" y="5429"/>
                  <a:pt x="9153" y="5606"/>
                </a:cubicBezTo>
              </a:path>
              <a:path w="572" h="646">
                <a:moveTo>
                  <a:pt x="9401" y="5011"/>
                </a:moveTo>
                <a:cubicBezTo>
                  <a:pt x="9464" y="4991"/>
                  <a:pt x="9764" y="4971"/>
                  <a:pt x="9599" y="5135"/>
                </a:cubicBezTo>
                <a:cubicBezTo>
                  <a:pt x="9526" y="5171"/>
                  <a:pt x="9521" y="5188"/>
                  <a:pt x="9475" y="5184"/>
                </a:cubicBezTo>
                <a:cubicBezTo>
                  <a:pt x="9588" y="5184"/>
                  <a:pt x="9729" y="5188"/>
                  <a:pt x="9674" y="5358"/>
                </a:cubicBezTo>
                <a:cubicBezTo>
                  <a:pt x="9634" y="5481"/>
                  <a:pt x="9463" y="5470"/>
                  <a:pt x="9376" y="54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60800" y="2251080"/>
            <a:ext cx="5234040" cy="2259000"/>
          </a:xfrm>
          <a:custGeom>
            <a:avLst/>
            <a:gdLst/>
            <a:ahLst/>
            <a:rect l="l" t="t" r="r" b="b"/>
            <a:pathLst>
              <a:path w="14536" h="6276">
                <a:moveTo>
                  <a:pt x="8781" y="6300"/>
                </a:moveTo>
                <a:cubicBezTo>
                  <a:pt x="8889" y="6279"/>
                  <a:pt x="8915" y="6276"/>
                  <a:pt x="8979" y="6251"/>
                </a:cubicBezTo>
              </a:path>
              <a:path w="14536" h="6276">
                <a:moveTo>
                  <a:pt x="23143" y="6474"/>
                </a:moveTo>
                <a:cubicBezTo>
                  <a:pt x="23151" y="6491"/>
                  <a:pt x="23160" y="6507"/>
                  <a:pt x="23168" y="6524"/>
                </a:cubicBezTo>
              </a:path>
              <a:path w="14536" h="6276">
                <a:moveTo>
                  <a:pt x="23267" y="8235"/>
                </a:moveTo>
                <a:cubicBezTo>
                  <a:pt x="23277" y="8275"/>
                  <a:pt x="23276" y="8275"/>
                  <a:pt x="23316" y="8285"/>
                </a:cubicBezTo>
              </a:path>
              <a:path w="14536" h="6276">
                <a:moveTo>
                  <a:pt x="9203" y="10170"/>
                </a:moveTo>
                <a:cubicBezTo>
                  <a:pt x="9304" y="10260"/>
                  <a:pt x="9393" y="10332"/>
                  <a:pt x="9525" y="10368"/>
                </a:cubicBezTo>
                <a:cubicBezTo>
                  <a:pt x="9550" y="10368"/>
                  <a:pt x="9558" y="10368"/>
                  <a:pt x="9550" y="10344"/>
                </a:cubicBezTo>
              </a:path>
              <a:path w="14536" h="6276">
                <a:moveTo>
                  <a:pt x="9277" y="12526"/>
                </a:moveTo>
                <a:cubicBezTo>
                  <a:pt x="9393" y="12503"/>
                  <a:pt x="9509" y="12479"/>
                  <a:pt x="9624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7000" y="1963800"/>
            <a:ext cx="258840" cy="2573280"/>
          </a:xfrm>
          <a:custGeom>
            <a:avLst/>
            <a:gdLst/>
            <a:ahLst/>
            <a:rect l="l" t="t" r="r" b="b"/>
            <a:pathLst>
              <a:path w="720" h="7145">
                <a:moveTo>
                  <a:pt x="9823" y="5457"/>
                </a:moveTo>
                <a:lnTo>
                  <a:pt x="9823" y="5457"/>
                </a:lnTo>
              </a:path>
              <a:path w="720" h="7145">
                <a:moveTo>
                  <a:pt x="9897" y="6449"/>
                </a:moveTo>
                <a:cubicBezTo>
                  <a:pt x="9939" y="6449"/>
                  <a:pt x="9918" y="6480"/>
                  <a:pt x="9947" y="6499"/>
                </a:cubicBezTo>
              </a:path>
              <a:path w="720" h="7145">
                <a:moveTo>
                  <a:pt x="10145" y="7441"/>
                </a:moveTo>
                <a:cubicBezTo>
                  <a:pt x="10145" y="7469"/>
                  <a:pt x="10143" y="7475"/>
                  <a:pt x="10120" y="7441"/>
                </a:cubicBezTo>
              </a:path>
              <a:path w="720" h="7145">
                <a:moveTo>
                  <a:pt x="10096" y="10244"/>
                </a:moveTo>
                <a:cubicBezTo>
                  <a:pt x="10096" y="10261"/>
                  <a:pt x="10096" y="10277"/>
                  <a:pt x="10096" y="10294"/>
                </a:cubicBezTo>
              </a:path>
              <a:path w="720" h="7145">
                <a:moveTo>
                  <a:pt x="10393" y="9947"/>
                </a:moveTo>
                <a:cubicBezTo>
                  <a:pt x="10285" y="10037"/>
                  <a:pt x="10259" y="10134"/>
                  <a:pt x="10269" y="10269"/>
                </a:cubicBezTo>
                <a:cubicBezTo>
                  <a:pt x="10423" y="10291"/>
                  <a:pt x="10595" y="10263"/>
                  <a:pt x="10542" y="10046"/>
                </a:cubicBezTo>
                <a:cubicBezTo>
                  <a:pt x="10496" y="10000"/>
                  <a:pt x="10484" y="9985"/>
                  <a:pt x="10443" y="9971"/>
                </a:cubicBezTo>
              </a:path>
              <a:path w="720" h="7145">
                <a:moveTo>
                  <a:pt x="10393" y="12551"/>
                </a:moveTo>
                <a:cubicBezTo>
                  <a:pt x="10393" y="12593"/>
                  <a:pt x="10385" y="12609"/>
                  <a:pt x="10418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25920" y="1803240"/>
            <a:ext cx="32220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0145" y="5110"/>
                </a:moveTo>
                <a:cubicBezTo>
                  <a:pt x="10105" y="5190"/>
                  <a:pt x="9977" y="5435"/>
                  <a:pt x="10145" y="5482"/>
                </a:cubicBezTo>
                <a:cubicBezTo>
                  <a:pt x="10354" y="5540"/>
                  <a:pt x="10432" y="5291"/>
                  <a:pt x="10319" y="5159"/>
                </a:cubicBezTo>
                <a:cubicBezTo>
                  <a:pt x="10262" y="5122"/>
                  <a:pt x="10259" y="5106"/>
                  <a:pt x="10220" y="5110"/>
                </a:cubicBezTo>
              </a:path>
              <a:path w="894" h="472">
                <a:moveTo>
                  <a:pt x="10542" y="5085"/>
                </a:moveTo>
                <a:cubicBezTo>
                  <a:pt x="10607" y="5060"/>
                  <a:pt x="10768" y="4949"/>
                  <a:pt x="10815" y="5060"/>
                </a:cubicBezTo>
                <a:cubicBezTo>
                  <a:pt x="10840" y="5119"/>
                  <a:pt x="10774" y="5150"/>
                  <a:pt x="10740" y="5184"/>
                </a:cubicBezTo>
                <a:cubicBezTo>
                  <a:pt x="10790" y="5184"/>
                  <a:pt x="10908" y="5158"/>
                  <a:pt x="10939" y="5209"/>
                </a:cubicBezTo>
                <a:cubicBezTo>
                  <a:pt x="11024" y="5348"/>
                  <a:pt x="10876" y="5416"/>
                  <a:pt x="10765" y="5432"/>
                </a:cubicBezTo>
                <a:cubicBezTo>
                  <a:pt x="10740" y="5432"/>
                  <a:pt x="10716" y="5432"/>
                  <a:pt x="10691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16160" y="2170080"/>
            <a:ext cx="1044720" cy="795240"/>
          </a:xfrm>
          <a:custGeom>
            <a:avLst/>
            <a:gdLst/>
            <a:ahLst/>
            <a:rect l="l" t="t" r="r" b="b"/>
            <a:pathLst>
              <a:path w="2903" h="2208">
                <a:moveTo>
                  <a:pt x="9575" y="6152"/>
                </a:moveTo>
                <a:cubicBezTo>
                  <a:pt x="9578" y="6146"/>
                  <a:pt x="9664" y="6065"/>
                  <a:pt x="9674" y="6102"/>
                </a:cubicBezTo>
                <a:cubicBezTo>
                  <a:pt x="9697" y="6187"/>
                  <a:pt x="9668" y="6217"/>
                  <a:pt x="9624" y="6276"/>
                </a:cubicBezTo>
                <a:cubicBezTo>
                  <a:pt x="9616" y="6276"/>
                  <a:pt x="9607" y="6276"/>
                  <a:pt x="9599" y="6276"/>
                </a:cubicBezTo>
                <a:cubicBezTo>
                  <a:pt x="9687" y="6276"/>
                  <a:pt x="9770" y="6295"/>
                  <a:pt x="9748" y="6424"/>
                </a:cubicBezTo>
                <a:cubicBezTo>
                  <a:pt x="9741" y="6467"/>
                  <a:pt x="9567" y="6683"/>
                  <a:pt x="9525" y="6598"/>
                </a:cubicBezTo>
                <a:cubicBezTo>
                  <a:pt x="9525" y="6581"/>
                  <a:pt x="9525" y="6565"/>
                  <a:pt x="9525" y="6548"/>
                </a:cubicBezTo>
              </a:path>
              <a:path w="2903" h="2208">
                <a:moveTo>
                  <a:pt x="10319" y="6077"/>
                </a:moveTo>
                <a:cubicBezTo>
                  <a:pt x="10268" y="6083"/>
                  <a:pt x="10221" y="6094"/>
                  <a:pt x="10170" y="6102"/>
                </a:cubicBezTo>
                <a:cubicBezTo>
                  <a:pt x="10195" y="6213"/>
                  <a:pt x="10325" y="6271"/>
                  <a:pt x="10344" y="6375"/>
                </a:cubicBezTo>
                <a:cubicBezTo>
                  <a:pt x="10336" y="6391"/>
                  <a:pt x="10327" y="6408"/>
                  <a:pt x="10319" y="6424"/>
                </a:cubicBezTo>
                <a:cubicBezTo>
                  <a:pt x="10221" y="6424"/>
                  <a:pt x="10264" y="6316"/>
                  <a:pt x="10294" y="6251"/>
                </a:cubicBezTo>
                <a:cubicBezTo>
                  <a:pt x="10320" y="6195"/>
                  <a:pt x="10471" y="6121"/>
                  <a:pt x="10443" y="6052"/>
                </a:cubicBezTo>
                <a:cubicBezTo>
                  <a:pt x="10414" y="6024"/>
                  <a:pt x="10401" y="6016"/>
                  <a:pt x="10368" y="6028"/>
                </a:cubicBezTo>
              </a:path>
              <a:path w="2903" h="2208">
                <a:moveTo>
                  <a:pt x="8657" y="6945"/>
                </a:moveTo>
                <a:cubicBezTo>
                  <a:pt x="8968" y="6827"/>
                  <a:pt x="9319" y="6795"/>
                  <a:pt x="9649" y="6772"/>
                </a:cubicBezTo>
                <a:cubicBezTo>
                  <a:pt x="10152" y="6737"/>
                  <a:pt x="10658" y="6722"/>
                  <a:pt x="11162" y="6722"/>
                </a:cubicBezTo>
                <a:cubicBezTo>
                  <a:pt x="11170" y="6722"/>
                  <a:pt x="11179" y="6722"/>
                  <a:pt x="11187" y="6722"/>
                </a:cubicBezTo>
              </a:path>
              <a:path w="2903" h="2208">
                <a:moveTo>
                  <a:pt x="10840" y="6127"/>
                </a:moveTo>
                <a:cubicBezTo>
                  <a:pt x="10747" y="6126"/>
                  <a:pt x="10704" y="6202"/>
                  <a:pt x="10716" y="6300"/>
                </a:cubicBezTo>
                <a:cubicBezTo>
                  <a:pt x="10811" y="6334"/>
                  <a:pt x="11027" y="6370"/>
                  <a:pt x="10914" y="6176"/>
                </a:cubicBezTo>
                <a:cubicBezTo>
                  <a:pt x="10847" y="6109"/>
                  <a:pt x="10832" y="6084"/>
                  <a:pt x="10765" y="6102"/>
                </a:cubicBezTo>
              </a:path>
              <a:path w="2903" h="2208">
                <a:moveTo>
                  <a:pt x="9252" y="6201"/>
                </a:moveTo>
                <a:cubicBezTo>
                  <a:pt x="9239" y="6239"/>
                  <a:pt x="9207" y="6280"/>
                  <a:pt x="9203" y="6350"/>
                </a:cubicBezTo>
                <a:cubicBezTo>
                  <a:pt x="9203" y="6367"/>
                  <a:pt x="9203" y="6383"/>
                  <a:pt x="9203" y="6400"/>
                </a:cubicBezTo>
                <a:cubicBezTo>
                  <a:pt x="9330" y="6400"/>
                  <a:pt x="9319" y="6378"/>
                  <a:pt x="9327" y="6251"/>
                </a:cubicBezTo>
                <a:cubicBezTo>
                  <a:pt x="9332" y="6172"/>
                  <a:pt x="9236" y="6200"/>
                  <a:pt x="9203" y="6226"/>
                </a:cubicBezTo>
              </a:path>
              <a:path w="2903" h="2208">
                <a:moveTo>
                  <a:pt x="10964" y="7020"/>
                </a:moveTo>
                <a:cubicBezTo>
                  <a:pt x="11007" y="7009"/>
                  <a:pt x="11059" y="6971"/>
                  <a:pt x="11112" y="6995"/>
                </a:cubicBezTo>
                <a:cubicBezTo>
                  <a:pt x="11120" y="7003"/>
                  <a:pt x="11129" y="7012"/>
                  <a:pt x="11137" y="7020"/>
                </a:cubicBezTo>
                <a:cubicBezTo>
                  <a:pt x="11078" y="7137"/>
                  <a:pt x="11052" y="7155"/>
                  <a:pt x="10939" y="7193"/>
                </a:cubicBezTo>
                <a:cubicBezTo>
                  <a:pt x="10947" y="7193"/>
                  <a:pt x="10956" y="7193"/>
                  <a:pt x="10964" y="7193"/>
                </a:cubicBezTo>
                <a:cubicBezTo>
                  <a:pt x="11032" y="7166"/>
                  <a:pt x="11261" y="7083"/>
                  <a:pt x="11261" y="7243"/>
                </a:cubicBezTo>
                <a:cubicBezTo>
                  <a:pt x="11261" y="7405"/>
                  <a:pt x="11022" y="7430"/>
                  <a:pt x="10914" y="7417"/>
                </a:cubicBezTo>
                <a:cubicBezTo>
                  <a:pt x="10889" y="7409"/>
                  <a:pt x="10865" y="7400"/>
                  <a:pt x="10840" y="7392"/>
                </a:cubicBezTo>
              </a:path>
              <a:path w="2903" h="2208">
                <a:moveTo>
                  <a:pt x="10542" y="7045"/>
                </a:moveTo>
                <a:cubicBezTo>
                  <a:pt x="10467" y="7030"/>
                  <a:pt x="10361" y="7021"/>
                  <a:pt x="10294" y="7069"/>
                </a:cubicBezTo>
                <a:cubicBezTo>
                  <a:pt x="10286" y="7077"/>
                  <a:pt x="10277" y="7086"/>
                  <a:pt x="10269" y="7094"/>
                </a:cubicBezTo>
                <a:cubicBezTo>
                  <a:pt x="10331" y="7168"/>
                  <a:pt x="10524" y="7277"/>
                  <a:pt x="10517" y="7367"/>
                </a:cubicBezTo>
                <a:cubicBezTo>
                  <a:pt x="10509" y="7375"/>
                  <a:pt x="10500" y="7384"/>
                  <a:pt x="10492" y="7392"/>
                </a:cubicBezTo>
                <a:cubicBezTo>
                  <a:pt x="10441" y="7401"/>
                  <a:pt x="10317" y="7427"/>
                  <a:pt x="10368" y="7317"/>
                </a:cubicBezTo>
                <a:cubicBezTo>
                  <a:pt x="10418" y="7207"/>
                  <a:pt x="10493" y="7142"/>
                  <a:pt x="10517" y="7020"/>
                </a:cubicBezTo>
              </a:path>
              <a:path w="2903" h="2208">
                <a:moveTo>
                  <a:pt x="9699" y="7069"/>
                </a:moveTo>
                <a:cubicBezTo>
                  <a:pt x="9699" y="7003"/>
                  <a:pt x="9689" y="7153"/>
                  <a:pt x="9674" y="7218"/>
                </a:cubicBezTo>
                <a:cubicBezTo>
                  <a:pt x="9655" y="7302"/>
                  <a:pt x="9633" y="7381"/>
                  <a:pt x="9624" y="7466"/>
                </a:cubicBezTo>
                <a:cubicBezTo>
                  <a:pt x="9683" y="7496"/>
                  <a:pt x="9767" y="7502"/>
                  <a:pt x="9823" y="7441"/>
                </a:cubicBezTo>
                <a:cubicBezTo>
                  <a:pt x="9841" y="7422"/>
                  <a:pt x="9890" y="7349"/>
                  <a:pt x="9872" y="7317"/>
                </a:cubicBezTo>
                <a:cubicBezTo>
                  <a:pt x="9836" y="7254"/>
                  <a:pt x="9797" y="7281"/>
                  <a:pt x="9748" y="7293"/>
                </a:cubicBezTo>
                <a:cubicBezTo>
                  <a:pt x="9725" y="7347"/>
                  <a:pt x="9702" y="7444"/>
                  <a:pt x="9723" y="7466"/>
                </a:cubicBezTo>
              </a:path>
              <a:path w="2903" h="2208">
                <a:moveTo>
                  <a:pt x="9302" y="7119"/>
                </a:moveTo>
                <a:cubicBezTo>
                  <a:pt x="9302" y="7216"/>
                  <a:pt x="9347" y="7545"/>
                  <a:pt x="9277" y="7590"/>
                </a:cubicBezTo>
              </a:path>
              <a:path w="2903" h="2208">
                <a:moveTo>
                  <a:pt x="8830" y="7938"/>
                </a:moveTo>
                <a:cubicBezTo>
                  <a:pt x="9010" y="8084"/>
                  <a:pt x="9199" y="8116"/>
                  <a:pt x="9426" y="8161"/>
                </a:cubicBezTo>
                <a:cubicBezTo>
                  <a:pt x="9899" y="8255"/>
                  <a:pt x="10348" y="8264"/>
                  <a:pt x="10815" y="8136"/>
                </a:cubicBezTo>
                <a:cubicBezTo>
                  <a:pt x="11054" y="8071"/>
                  <a:pt x="11404" y="7939"/>
                  <a:pt x="11509" y="7689"/>
                </a:cubicBezTo>
                <a:cubicBezTo>
                  <a:pt x="11573" y="7537"/>
                  <a:pt x="11549" y="7396"/>
                  <a:pt x="11509" y="7243"/>
                </a:cubicBezTo>
                <a:cubicBezTo>
                  <a:pt x="11485" y="7150"/>
                  <a:pt x="11410" y="7080"/>
                  <a:pt x="11336" y="7020"/>
                </a:cubicBezTo>
                <a:cubicBezTo>
                  <a:pt x="11215" y="6923"/>
                  <a:pt x="11037" y="6877"/>
                  <a:pt x="10889" y="6846"/>
                </a:cubicBezTo>
                <a:cubicBezTo>
                  <a:pt x="10649" y="6796"/>
                  <a:pt x="10389" y="6779"/>
                  <a:pt x="10145" y="6796"/>
                </a:cubicBezTo>
                <a:cubicBezTo>
                  <a:pt x="9912" y="6813"/>
                  <a:pt x="9723" y="6892"/>
                  <a:pt x="9500" y="6945"/>
                </a:cubicBezTo>
                <a:cubicBezTo>
                  <a:pt x="9313" y="6990"/>
                  <a:pt x="9064" y="7039"/>
                  <a:pt x="8930" y="7193"/>
                </a:cubicBezTo>
                <a:cubicBezTo>
                  <a:pt x="8808" y="7334"/>
                  <a:pt x="8809" y="7518"/>
                  <a:pt x="8855" y="7689"/>
                </a:cubicBezTo>
                <a:cubicBezTo>
                  <a:pt x="8895" y="7838"/>
                  <a:pt x="8958" y="7995"/>
                  <a:pt x="9128" y="7987"/>
                </a:cubicBezTo>
                <a:cubicBezTo>
                  <a:pt x="9178" y="7979"/>
                  <a:pt x="9227" y="7970"/>
                  <a:pt x="9277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9080" y="3438360"/>
            <a:ext cx="947880" cy="1616400"/>
          </a:xfrm>
          <a:custGeom>
            <a:avLst/>
            <a:gdLst/>
            <a:ahLst/>
            <a:rect l="l" t="t" r="r" b="b"/>
            <a:pathLst>
              <a:path w="2630" h="4490">
                <a:moveTo>
                  <a:pt x="10740" y="9922"/>
                </a:moveTo>
                <a:cubicBezTo>
                  <a:pt x="10778" y="9909"/>
                  <a:pt x="10890" y="9828"/>
                  <a:pt x="10939" y="9872"/>
                </a:cubicBezTo>
                <a:cubicBezTo>
                  <a:pt x="11003" y="9931"/>
                  <a:pt x="10924" y="9981"/>
                  <a:pt x="10889" y="10021"/>
                </a:cubicBezTo>
                <a:cubicBezTo>
                  <a:pt x="10828" y="10021"/>
                  <a:pt x="10993" y="9990"/>
                  <a:pt x="11013" y="9996"/>
                </a:cubicBezTo>
                <a:cubicBezTo>
                  <a:pt x="11153" y="10041"/>
                  <a:pt x="11171" y="10182"/>
                  <a:pt x="11038" y="10244"/>
                </a:cubicBezTo>
                <a:cubicBezTo>
                  <a:pt x="10946" y="10267"/>
                  <a:pt x="10921" y="10278"/>
                  <a:pt x="10864" y="10244"/>
                </a:cubicBezTo>
              </a:path>
              <a:path w="2630" h="4490">
                <a:moveTo>
                  <a:pt x="9054" y="10765"/>
                </a:moveTo>
                <a:cubicBezTo>
                  <a:pt x="9140" y="10751"/>
                  <a:pt x="9193" y="10740"/>
                  <a:pt x="9277" y="10740"/>
                </a:cubicBezTo>
              </a:path>
              <a:path w="2630" h="4490">
                <a:moveTo>
                  <a:pt x="10021" y="10765"/>
                </a:moveTo>
                <a:cubicBezTo>
                  <a:pt x="9979" y="10751"/>
                  <a:pt x="9993" y="10666"/>
                  <a:pt x="9922" y="10666"/>
                </a:cubicBezTo>
                <a:cubicBezTo>
                  <a:pt x="9795" y="10666"/>
                  <a:pt x="9774" y="10779"/>
                  <a:pt x="9748" y="10864"/>
                </a:cubicBezTo>
                <a:cubicBezTo>
                  <a:pt x="9904" y="10886"/>
                  <a:pt x="9896" y="10880"/>
                  <a:pt x="9996" y="10765"/>
                </a:cubicBezTo>
                <a:cubicBezTo>
                  <a:pt x="10018" y="10743"/>
                  <a:pt x="10027" y="10738"/>
                  <a:pt x="10021" y="10716"/>
                </a:cubicBezTo>
                <a:cubicBezTo>
                  <a:pt x="10021" y="10855"/>
                  <a:pt x="10056" y="11043"/>
                  <a:pt x="9996" y="11162"/>
                </a:cubicBezTo>
              </a:path>
              <a:path w="2630" h="4490">
                <a:moveTo>
                  <a:pt x="10195" y="10939"/>
                </a:moveTo>
                <a:cubicBezTo>
                  <a:pt x="10195" y="10981"/>
                  <a:pt x="10230" y="10964"/>
                  <a:pt x="10269" y="10964"/>
                </a:cubicBezTo>
              </a:path>
              <a:path w="2630" h="4490">
                <a:moveTo>
                  <a:pt x="10592" y="10641"/>
                </a:moveTo>
                <a:cubicBezTo>
                  <a:pt x="10488" y="10710"/>
                  <a:pt x="10456" y="10771"/>
                  <a:pt x="10393" y="10889"/>
                </a:cubicBezTo>
                <a:cubicBezTo>
                  <a:pt x="10491" y="10948"/>
                  <a:pt x="10691" y="10952"/>
                  <a:pt x="10691" y="10765"/>
                </a:cubicBezTo>
                <a:cubicBezTo>
                  <a:pt x="10691" y="10740"/>
                  <a:pt x="10603" y="10687"/>
                  <a:pt x="10592" y="10666"/>
                </a:cubicBezTo>
              </a:path>
              <a:path w="2630" h="4490">
                <a:moveTo>
                  <a:pt x="10964" y="10592"/>
                </a:moveTo>
                <a:cubicBezTo>
                  <a:pt x="10882" y="10673"/>
                  <a:pt x="10853" y="10750"/>
                  <a:pt x="10815" y="10864"/>
                </a:cubicBezTo>
                <a:cubicBezTo>
                  <a:pt x="10921" y="10902"/>
                  <a:pt x="11161" y="10924"/>
                  <a:pt x="11137" y="10716"/>
                </a:cubicBezTo>
                <a:cubicBezTo>
                  <a:pt x="11117" y="10540"/>
                  <a:pt x="10928" y="10752"/>
                  <a:pt x="10914" y="10765"/>
                </a:cubicBezTo>
              </a:path>
              <a:path w="2630" h="4490">
                <a:moveTo>
                  <a:pt x="9054" y="11435"/>
                </a:moveTo>
                <a:cubicBezTo>
                  <a:pt x="9526" y="11349"/>
                  <a:pt x="9992" y="11197"/>
                  <a:pt x="10468" y="11137"/>
                </a:cubicBezTo>
                <a:cubicBezTo>
                  <a:pt x="10655" y="11113"/>
                  <a:pt x="10931" y="11106"/>
                  <a:pt x="11137" y="11088"/>
                </a:cubicBezTo>
              </a:path>
              <a:path w="2630" h="4490">
                <a:moveTo>
                  <a:pt x="10914" y="11361"/>
                </a:moveTo>
                <a:cubicBezTo>
                  <a:pt x="11024" y="11361"/>
                  <a:pt x="11069" y="11343"/>
                  <a:pt x="11137" y="11410"/>
                </a:cubicBezTo>
                <a:cubicBezTo>
                  <a:pt x="11089" y="11526"/>
                  <a:pt x="11061" y="11543"/>
                  <a:pt x="10964" y="11609"/>
                </a:cubicBezTo>
                <a:cubicBezTo>
                  <a:pt x="11024" y="11572"/>
                  <a:pt x="11144" y="11565"/>
                  <a:pt x="11212" y="11609"/>
                </a:cubicBezTo>
                <a:cubicBezTo>
                  <a:pt x="11220" y="11625"/>
                  <a:pt x="11229" y="11642"/>
                  <a:pt x="11237" y="11658"/>
                </a:cubicBezTo>
                <a:cubicBezTo>
                  <a:pt x="11216" y="11775"/>
                  <a:pt x="11178" y="11843"/>
                  <a:pt x="11038" y="11832"/>
                </a:cubicBezTo>
                <a:cubicBezTo>
                  <a:pt x="10997" y="11824"/>
                  <a:pt x="10955" y="11815"/>
                  <a:pt x="10914" y="11807"/>
                </a:cubicBezTo>
              </a:path>
              <a:path w="2630" h="4490">
                <a:moveTo>
                  <a:pt x="10468" y="11460"/>
                </a:moveTo>
                <a:cubicBezTo>
                  <a:pt x="10377" y="11490"/>
                  <a:pt x="10278" y="11602"/>
                  <a:pt x="10269" y="11708"/>
                </a:cubicBezTo>
                <a:cubicBezTo>
                  <a:pt x="10251" y="11927"/>
                  <a:pt x="10534" y="11813"/>
                  <a:pt x="10592" y="11708"/>
                </a:cubicBezTo>
                <a:cubicBezTo>
                  <a:pt x="10654" y="11595"/>
                  <a:pt x="10589" y="11498"/>
                  <a:pt x="10492" y="11460"/>
                </a:cubicBezTo>
              </a:path>
              <a:path w="2630" h="4490">
                <a:moveTo>
                  <a:pt x="10145" y="11832"/>
                </a:moveTo>
                <a:cubicBezTo>
                  <a:pt x="10137" y="11866"/>
                  <a:pt x="10086" y="11986"/>
                  <a:pt x="10145" y="11832"/>
                </a:cubicBezTo>
              </a:path>
              <a:path w="2630" h="4490">
                <a:moveTo>
                  <a:pt x="9327" y="9550"/>
                </a:moveTo>
                <a:cubicBezTo>
                  <a:pt x="9226" y="9564"/>
                  <a:pt x="9167" y="9670"/>
                  <a:pt x="9227" y="9773"/>
                </a:cubicBezTo>
                <a:cubicBezTo>
                  <a:pt x="9244" y="9781"/>
                  <a:pt x="9260" y="9790"/>
                  <a:pt x="9277" y="9798"/>
                </a:cubicBezTo>
                <a:cubicBezTo>
                  <a:pt x="9364" y="9735"/>
                  <a:pt x="9360" y="9702"/>
                  <a:pt x="9327" y="9599"/>
                </a:cubicBezTo>
              </a:path>
              <a:path w="2630" h="4490">
                <a:moveTo>
                  <a:pt x="9599" y="9723"/>
                </a:moveTo>
                <a:cubicBezTo>
                  <a:pt x="9607" y="9782"/>
                  <a:pt x="9624" y="9837"/>
                  <a:pt x="9624" y="9897"/>
                </a:cubicBezTo>
              </a:path>
              <a:path w="2630" h="4490">
                <a:moveTo>
                  <a:pt x="10666" y="12229"/>
                </a:moveTo>
                <a:cubicBezTo>
                  <a:pt x="10598" y="12229"/>
                  <a:pt x="10579" y="12226"/>
                  <a:pt x="10542" y="12254"/>
                </a:cubicBezTo>
                <a:cubicBezTo>
                  <a:pt x="10517" y="12378"/>
                  <a:pt x="10565" y="12373"/>
                  <a:pt x="10641" y="12477"/>
                </a:cubicBezTo>
                <a:cubicBezTo>
                  <a:pt x="10713" y="12576"/>
                  <a:pt x="10608" y="12592"/>
                  <a:pt x="10542" y="12576"/>
                </a:cubicBezTo>
                <a:cubicBezTo>
                  <a:pt x="10571" y="12478"/>
                  <a:pt x="10651" y="12399"/>
                  <a:pt x="10691" y="12303"/>
                </a:cubicBezTo>
                <a:cubicBezTo>
                  <a:pt x="10691" y="12295"/>
                  <a:pt x="10691" y="12286"/>
                  <a:pt x="10691" y="12278"/>
                </a:cubicBezTo>
              </a:path>
              <a:path w="2630" h="4490">
                <a:moveTo>
                  <a:pt x="11038" y="12204"/>
                </a:moveTo>
                <a:cubicBezTo>
                  <a:pt x="10939" y="12253"/>
                  <a:pt x="10817" y="12374"/>
                  <a:pt x="10889" y="12502"/>
                </a:cubicBezTo>
                <a:cubicBezTo>
                  <a:pt x="10979" y="12663"/>
                  <a:pt x="11215" y="12469"/>
                  <a:pt x="11187" y="12328"/>
                </a:cubicBezTo>
                <a:cubicBezTo>
                  <a:pt x="11167" y="12228"/>
                  <a:pt x="11108" y="12254"/>
                  <a:pt x="11038" y="12254"/>
                </a:cubicBezTo>
              </a:path>
              <a:path w="2630" h="4490">
                <a:moveTo>
                  <a:pt x="9376" y="13047"/>
                </a:moveTo>
                <a:cubicBezTo>
                  <a:pt x="9886" y="12898"/>
                  <a:pt x="10387" y="12841"/>
                  <a:pt x="10914" y="12774"/>
                </a:cubicBezTo>
                <a:cubicBezTo>
                  <a:pt x="11062" y="12755"/>
                  <a:pt x="11320" y="12688"/>
                  <a:pt x="11460" y="12700"/>
                </a:cubicBezTo>
              </a:path>
              <a:path w="2630" h="4490">
                <a:moveTo>
                  <a:pt x="11088" y="12898"/>
                </a:moveTo>
                <a:cubicBezTo>
                  <a:pt x="11183" y="12898"/>
                  <a:pt x="11268" y="12914"/>
                  <a:pt x="11361" y="12923"/>
                </a:cubicBezTo>
                <a:cubicBezTo>
                  <a:pt x="11348" y="13015"/>
                  <a:pt x="11274" y="13076"/>
                  <a:pt x="11187" y="13122"/>
                </a:cubicBezTo>
                <a:cubicBezTo>
                  <a:pt x="11179" y="13122"/>
                  <a:pt x="11170" y="13122"/>
                  <a:pt x="11162" y="13122"/>
                </a:cubicBezTo>
                <a:cubicBezTo>
                  <a:pt x="11257" y="13110"/>
                  <a:pt x="11311" y="13087"/>
                  <a:pt x="11410" y="13122"/>
                </a:cubicBezTo>
                <a:cubicBezTo>
                  <a:pt x="11460" y="13146"/>
                  <a:pt x="11477" y="13154"/>
                  <a:pt x="11485" y="13196"/>
                </a:cubicBezTo>
                <a:cubicBezTo>
                  <a:pt x="11394" y="13332"/>
                  <a:pt x="11346" y="13320"/>
                  <a:pt x="11187" y="13320"/>
                </a:cubicBezTo>
              </a:path>
              <a:path w="2630" h="4490">
                <a:moveTo>
                  <a:pt x="10691" y="13047"/>
                </a:moveTo>
                <a:cubicBezTo>
                  <a:pt x="10625" y="13047"/>
                  <a:pt x="10558" y="13047"/>
                  <a:pt x="10492" y="13047"/>
                </a:cubicBezTo>
                <a:cubicBezTo>
                  <a:pt x="10544" y="13150"/>
                  <a:pt x="10703" y="13226"/>
                  <a:pt x="10740" y="13345"/>
                </a:cubicBezTo>
                <a:cubicBezTo>
                  <a:pt x="10732" y="13362"/>
                  <a:pt x="10724" y="13378"/>
                  <a:pt x="10716" y="13395"/>
                </a:cubicBezTo>
                <a:cubicBezTo>
                  <a:pt x="10527" y="13419"/>
                  <a:pt x="10502" y="13369"/>
                  <a:pt x="10567" y="13171"/>
                </a:cubicBezTo>
                <a:cubicBezTo>
                  <a:pt x="10593" y="13094"/>
                  <a:pt x="10617" y="13071"/>
                  <a:pt x="10666" y="13022"/>
                </a:cubicBezTo>
              </a:path>
              <a:path w="2630" h="4490">
                <a:moveTo>
                  <a:pt x="10294" y="13444"/>
                </a:moveTo>
                <a:cubicBezTo>
                  <a:pt x="10294" y="13485"/>
                  <a:pt x="10294" y="13527"/>
                  <a:pt x="10294" y="13568"/>
                </a:cubicBezTo>
              </a:path>
              <a:path w="2630" h="4490">
                <a:moveTo>
                  <a:pt x="9674" y="13221"/>
                </a:moveTo>
                <a:cubicBezTo>
                  <a:pt x="9741" y="13207"/>
                  <a:pt x="9856" y="13161"/>
                  <a:pt x="9922" y="13171"/>
                </a:cubicBezTo>
                <a:cubicBezTo>
                  <a:pt x="9922" y="13179"/>
                  <a:pt x="9922" y="13188"/>
                  <a:pt x="9922" y="13196"/>
                </a:cubicBezTo>
                <a:cubicBezTo>
                  <a:pt x="9945" y="13297"/>
                  <a:pt x="9918" y="13432"/>
                  <a:pt x="9897" y="13543"/>
                </a:cubicBezTo>
                <a:cubicBezTo>
                  <a:pt x="9897" y="13571"/>
                  <a:pt x="9895" y="13582"/>
                  <a:pt x="9872" y="13593"/>
                </a:cubicBezTo>
              </a:path>
              <a:path w="2630" h="4490">
                <a:moveTo>
                  <a:pt x="9748" y="13940"/>
                </a:moveTo>
                <a:cubicBezTo>
                  <a:pt x="10060" y="13963"/>
                  <a:pt x="10380" y="13995"/>
                  <a:pt x="10691" y="13940"/>
                </a:cubicBezTo>
                <a:cubicBezTo>
                  <a:pt x="10954" y="13894"/>
                  <a:pt x="11198" y="13801"/>
                  <a:pt x="11410" y="13643"/>
                </a:cubicBezTo>
                <a:cubicBezTo>
                  <a:pt x="11577" y="13518"/>
                  <a:pt x="11677" y="13382"/>
                  <a:pt x="11683" y="13171"/>
                </a:cubicBezTo>
                <a:cubicBezTo>
                  <a:pt x="11685" y="13102"/>
                  <a:pt x="11678" y="13038"/>
                  <a:pt x="11658" y="12973"/>
                </a:cubicBezTo>
                <a:cubicBezTo>
                  <a:pt x="11630" y="12883"/>
                  <a:pt x="11565" y="12820"/>
                  <a:pt x="11485" y="12774"/>
                </a:cubicBezTo>
                <a:cubicBezTo>
                  <a:pt x="11346" y="12694"/>
                  <a:pt x="11146" y="12703"/>
                  <a:pt x="10988" y="12700"/>
                </a:cubicBezTo>
                <a:cubicBezTo>
                  <a:pt x="10773" y="12696"/>
                  <a:pt x="10574" y="12711"/>
                  <a:pt x="10368" y="12774"/>
                </a:cubicBezTo>
                <a:cubicBezTo>
                  <a:pt x="10153" y="12840"/>
                  <a:pt x="9875" y="12908"/>
                  <a:pt x="9699" y="13047"/>
                </a:cubicBezTo>
                <a:cubicBezTo>
                  <a:pt x="9525" y="13184"/>
                  <a:pt x="9418" y="13360"/>
                  <a:pt x="9351" y="13568"/>
                </a:cubicBezTo>
                <a:cubicBezTo>
                  <a:pt x="9318" y="13671"/>
                  <a:pt x="9292" y="13813"/>
                  <a:pt x="9376" y="13891"/>
                </a:cubicBezTo>
                <a:cubicBezTo>
                  <a:pt x="9538" y="14040"/>
                  <a:pt x="9713" y="14036"/>
                  <a:pt x="9922" y="14039"/>
                </a:cubicBezTo>
                <a:cubicBezTo>
                  <a:pt x="9988" y="14040"/>
                  <a:pt x="10054" y="14039"/>
                  <a:pt x="10120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2000" y="357192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9475" y="9971"/>
                </a:moveTo>
                <a:cubicBezTo>
                  <a:pt x="9463" y="10120"/>
                  <a:pt x="9442" y="10248"/>
                  <a:pt x="9475" y="10393"/>
                </a:cubicBezTo>
              </a:path>
              <a:path w="472" h="472">
                <a:moveTo>
                  <a:pt x="9649" y="9996"/>
                </a:moveTo>
                <a:cubicBezTo>
                  <a:pt x="9704" y="9969"/>
                  <a:pt x="9871" y="9855"/>
                  <a:pt x="9847" y="9996"/>
                </a:cubicBezTo>
                <a:cubicBezTo>
                  <a:pt x="9818" y="10056"/>
                  <a:pt x="9800" y="10079"/>
                  <a:pt x="9748" y="10096"/>
                </a:cubicBezTo>
                <a:cubicBezTo>
                  <a:pt x="9740" y="10104"/>
                  <a:pt x="9731" y="10112"/>
                  <a:pt x="9723" y="10120"/>
                </a:cubicBezTo>
                <a:cubicBezTo>
                  <a:pt x="9834" y="10105"/>
                  <a:pt x="9951" y="10086"/>
                  <a:pt x="9922" y="10269"/>
                </a:cubicBezTo>
                <a:cubicBezTo>
                  <a:pt x="9905" y="10376"/>
                  <a:pt x="9667" y="10407"/>
                  <a:pt x="9624" y="10319"/>
                </a:cubicBezTo>
                <a:cubicBezTo>
                  <a:pt x="9641" y="10319"/>
                  <a:pt x="9657" y="10319"/>
                  <a:pt x="9674" y="103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67080" y="4106880"/>
            <a:ext cx="276120" cy="49212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9773" y="11534"/>
                </a:moveTo>
                <a:cubicBezTo>
                  <a:pt x="9773" y="11606"/>
                  <a:pt x="9760" y="11664"/>
                  <a:pt x="9748" y="11733"/>
                </a:cubicBezTo>
                <a:cubicBezTo>
                  <a:pt x="9870" y="11733"/>
                  <a:pt x="9934" y="11723"/>
                  <a:pt x="10046" y="11683"/>
                </a:cubicBezTo>
              </a:path>
              <a:path w="770" h="1365">
                <a:moveTo>
                  <a:pt x="9971" y="11410"/>
                </a:moveTo>
                <a:cubicBezTo>
                  <a:pt x="9971" y="11561"/>
                  <a:pt x="9953" y="11707"/>
                  <a:pt x="9947" y="11857"/>
                </a:cubicBezTo>
                <a:cubicBezTo>
                  <a:pt x="9947" y="11881"/>
                  <a:pt x="9947" y="11890"/>
                  <a:pt x="9947" y="11906"/>
                </a:cubicBezTo>
              </a:path>
              <a:path w="770" h="1365">
                <a:moveTo>
                  <a:pt x="9351" y="12328"/>
                </a:moveTo>
                <a:cubicBezTo>
                  <a:pt x="9388" y="12437"/>
                  <a:pt x="9401" y="12534"/>
                  <a:pt x="9401" y="12650"/>
                </a:cubicBezTo>
              </a:path>
              <a:path w="770" h="1365">
                <a:moveTo>
                  <a:pt x="9773" y="12303"/>
                </a:moveTo>
                <a:cubicBezTo>
                  <a:pt x="9872" y="12303"/>
                  <a:pt x="9954" y="12262"/>
                  <a:pt x="10046" y="12229"/>
                </a:cubicBezTo>
                <a:cubicBezTo>
                  <a:pt x="10095" y="12343"/>
                  <a:pt x="10060" y="12413"/>
                  <a:pt x="9947" y="12477"/>
                </a:cubicBezTo>
                <a:cubicBezTo>
                  <a:pt x="9939" y="12477"/>
                  <a:pt x="9930" y="12477"/>
                  <a:pt x="9922" y="12477"/>
                </a:cubicBezTo>
                <a:cubicBezTo>
                  <a:pt x="10030" y="12428"/>
                  <a:pt x="10120" y="12408"/>
                  <a:pt x="10120" y="12576"/>
                </a:cubicBezTo>
                <a:cubicBezTo>
                  <a:pt x="10120" y="12705"/>
                  <a:pt x="10002" y="12825"/>
                  <a:pt x="9872" y="12750"/>
                </a:cubicBezTo>
                <a:cubicBezTo>
                  <a:pt x="9872" y="12742"/>
                  <a:pt x="9872" y="12733"/>
                  <a:pt x="9872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0800" y="1554120"/>
            <a:ext cx="847440" cy="1455840"/>
          </a:xfrm>
          <a:custGeom>
            <a:avLst/>
            <a:gdLst/>
            <a:ahLst/>
            <a:rect l="l" t="t" r="r" b="b"/>
            <a:pathLst>
              <a:path w="2357" h="4044">
                <a:moveTo>
                  <a:pt x="22721" y="6152"/>
                </a:moveTo>
                <a:cubicBezTo>
                  <a:pt x="22780" y="6134"/>
                  <a:pt x="22960" y="6038"/>
                  <a:pt x="22944" y="6152"/>
                </a:cubicBezTo>
                <a:cubicBezTo>
                  <a:pt x="22932" y="6240"/>
                  <a:pt x="22886" y="6260"/>
                  <a:pt x="22820" y="6300"/>
                </a:cubicBezTo>
                <a:cubicBezTo>
                  <a:pt x="22885" y="6216"/>
                  <a:pt x="22952" y="6270"/>
                  <a:pt x="22969" y="6375"/>
                </a:cubicBezTo>
                <a:cubicBezTo>
                  <a:pt x="22994" y="6533"/>
                  <a:pt x="22864" y="6543"/>
                  <a:pt x="22746" y="6548"/>
                </a:cubicBezTo>
                <a:cubicBezTo>
                  <a:pt x="22729" y="6548"/>
                  <a:pt x="22713" y="6548"/>
                  <a:pt x="22696" y="6548"/>
                </a:cubicBezTo>
              </a:path>
              <a:path w="2357" h="4044">
                <a:moveTo>
                  <a:pt x="23713" y="6052"/>
                </a:moveTo>
                <a:cubicBezTo>
                  <a:pt x="23633" y="6052"/>
                  <a:pt x="23600" y="6052"/>
                  <a:pt x="23540" y="6102"/>
                </a:cubicBezTo>
                <a:cubicBezTo>
                  <a:pt x="23581" y="6185"/>
                  <a:pt x="23780" y="6335"/>
                  <a:pt x="23738" y="6424"/>
                </a:cubicBezTo>
                <a:cubicBezTo>
                  <a:pt x="23668" y="6471"/>
                  <a:pt x="23648" y="6488"/>
                  <a:pt x="23589" y="6474"/>
                </a:cubicBezTo>
                <a:cubicBezTo>
                  <a:pt x="23573" y="6328"/>
                  <a:pt x="23708" y="6304"/>
                  <a:pt x="23763" y="6176"/>
                </a:cubicBezTo>
                <a:cubicBezTo>
                  <a:pt x="23793" y="6105"/>
                  <a:pt x="23740" y="6035"/>
                  <a:pt x="23763" y="5978"/>
                </a:cubicBezTo>
              </a:path>
              <a:path w="2357" h="4044">
                <a:moveTo>
                  <a:pt x="23788" y="5135"/>
                </a:moveTo>
                <a:cubicBezTo>
                  <a:pt x="23696" y="5155"/>
                  <a:pt x="23557" y="5227"/>
                  <a:pt x="23614" y="5358"/>
                </a:cubicBezTo>
                <a:cubicBezTo>
                  <a:pt x="23673" y="5496"/>
                  <a:pt x="23891" y="5446"/>
                  <a:pt x="23912" y="5308"/>
                </a:cubicBezTo>
                <a:cubicBezTo>
                  <a:pt x="23928" y="5203"/>
                  <a:pt x="23839" y="5174"/>
                  <a:pt x="23763" y="5159"/>
                </a:cubicBezTo>
              </a:path>
              <a:path w="2357" h="4044">
                <a:moveTo>
                  <a:pt x="22126" y="6871"/>
                </a:moveTo>
                <a:cubicBezTo>
                  <a:pt x="22497" y="6816"/>
                  <a:pt x="22867" y="6794"/>
                  <a:pt x="23242" y="6772"/>
                </a:cubicBezTo>
                <a:cubicBezTo>
                  <a:pt x="23542" y="6754"/>
                  <a:pt x="23835" y="6747"/>
                  <a:pt x="24135" y="6747"/>
                </a:cubicBezTo>
              </a:path>
              <a:path w="2357" h="4044">
                <a:moveTo>
                  <a:pt x="22820" y="5060"/>
                </a:moveTo>
                <a:cubicBezTo>
                  <a:pt x="22796" y="5060"/>
                  <a:pt x="22788" y="5060"/>
                  <a:pt x="22796" y="5035"/>
                </a:cubicBezTo>
                <a:cubicBezTo>
                  <a:pt x="22902" y="5124"/>
                  <a:pt x="22998" y="5311"/>
                  <a:pt x="23044" y="5457"/>
                </a:cubicBezTo>
                <a:cubicBezTo>
                  <a:pt x="23044" y="5474"/>
                  <a:pt x="23044" y="5490"/>
                  <a:pt x="23044" y="5507"/>
                </a:cubicBezTo>
              </a:path>
              <a:path w="2357" h="4044">
                <a:moveTo>
                  <a:pt x="22721" y="4341"/>
                </a:moveTo>
                <a:cubicBezTo>
                  <a:pt x="22704" y="4291"/>
                  <a:pt x="22673" y="4331"/>
                  <a:pt x="22622" y="4341"/>
                </a:cubicBezTo>
                <a:cubicBezTo>
                  <a:pt x="22583" y="4400"/>
                  <a:pt x="22728" y="4512"/>
                  <a:pt x="22721" y="4614"/>
                </a:cubicBezTo>
                <a:cubicBezTo>
                  <a:pt x="22675" y="4660"/>
                  <a:pt x="22662" y="4674"/>
                  <a:pt x="22622" y="4688"/>
                </a:cubicBezTo>
                <a:cubicBezTo>
                  <a:pt x="22534" y="4557"/>
                  <a:pt x="22629" y="4517"/>
                  <a:pt x="22671" y="4390"/>
                </a:cubicBezTo>
                <a:cubicBezTo>
                  <a:pt x="22671" y="4349"/>
                  <a:pt x="22663" y="4333"/>
                  <a:pt x="22696" y="4341"/>
                </a:cubicBezTo>
              </a:path>
              <a:path w="2357" h="4044">
                <a:moveTo>
                  <a:pt x="23242" y="4812"/>
                </a:moveTo>
                <a:cubicBezTo>
                  <a:pt x="23237" y="4930"/>
                  <a:pt x="23191" y="5168"/>
                  <a:pt x="23242" y="5184"/>
                </a:cubicBezTo>
              </a:path>
              <a:path w="2357" h="4044">
                <a:moveTo>
                  <a:pt x="23614" y="6995"/>
                </a:moveTo>
                <a:cubicBezTo>
                  <a:pt x="23627" y="6944"/>
                  <a:pt x="23656" y="6926"/>
                  <a:pt x="23713" y="6921"/>
                </a:cubicBezTo>
                <a:cubicBezTo>
                  <a:pt x="23721" y="6921"/>
                  <a:pt x="23730" y="6921"/>
                  <a:pt x="23738" y="6921"/>
                </a:cubicBezTo>
                <a:cubicBezTo>
                  <a:pt x="23718" y="7069"/>
                  <a:pt x="23670" y="7131"/>
                  <a:pt x="23564" y="7243"/>
                </a:cubicBezTo>
                <a:cubicBezTo>
                  <a:pt x="23517" y="7292"/>
                  <a:pt x="23488" y="7344"/>
                  <a:pt x="23440" y="7392"/>
                </a:cubicBezTo>
                <a:cubicBezTo>
                  <a:pt x="23496" y="7378"/>
                  <a:pt x="23535" y="7317"/>
                  <a:pt x="23589" y="7293"/>
                </a:cubicBezTo>
                <a:cubicBezTo>
                  <a:pt x="23648" y="7267"/>
                  <a:pt x="23766" y="7392"/>
                  <a:pt x="23837" y="7392"/>
                </a:cubicBezTo>
                <a:cubicBezTo>
                  <a:pt x="23909" y="7392"/>
                  <a:pt x="23940" y="7345"/>
                  <a:pt x="23961" y="7293"/>
                </a:cubicBezTo>
              </a:path>
              <a:path w="2357" h="4044">
                <a:moveTo>
                  <a:pt x="23192" y="7392"/>
                </a:moveTo>
                <a:cubicBezTo>
                  <a:pt x="23192" y="7403"/>
                  <a:pt x="23192" y="7508"/>
                  <a:pt x="23192" y="7441"/>
                </a:cubicBezTo>
                <a:cubicBezTo>
                  <a:pt x="23192" y="7433"/>
                  <a:pt x="23192" y="7425"/>
                  <a:pt x="23192" y="7417"/>
                </a:cubicBezTo>
              </a:path>
              <a:path w="2357" h="4044">
                <a:moveTo>
                  <a:pt x="22994" y="7094"/>
                </a:moveTo>
                <a:cubicBezTo>
                  <a:pt x="22880" y="7094"/>
                  <a:pt x="22859" y="7069"/>
                  <a:pt x="22796" y="7169"/>
                </a:cubicBezTo>
                <a:cubicBezTo>
                  <a:pt x="22776" y="7209"/>
                  <a:pt x="22767" y="7215"/>
                  <a:pt x="22771" y="7243"/>
                </a:cubicBezTo>
                <a:cubicBezTo>
                  <a:pt x="22812" y="7233"/>
                  <a:pt x="22877" y="7184"/>
                  <a:pt x="22920" y="7243"/>
                </a:cubicBezTo>
                <a:cubicBezTo>
                  <a:pt x="22971" y="7314"/>
                  <a:pt x="22932" y="7432"/>
                  <a:pt x="22845" y="7441"/>
                </a:cubicBezTo>
                <a:cubicBezTo>
                  <a:pt x="22806" y="7445"/>
                  <a:pt x="22761" y="7441"/>
                  <a:pt x="22721" y="7441"/>
                </a:cubicBezTo>
              </a:path>
              <a:path w="2357" h="4044">
                <a:moveTo>
                  <a:pt x="21977" y="8062"/>
                </a:moveTo>
                <a:cubicBezTo>
                  <a:pt x="21977" y="8168"/>
                  <a:pt x="21953" y="8236"/>
                  <a:pt x="21927" y="8334"/>
                </a:cubicBezTo>
                <a:cubicBezTo>
                  <a:pt x="21927" y="8342"/>
                  <a:pt x="21927" y="8351"/>
                  <a:pt x="21927" y="8359"/>
                </a:cubicBezTo>
              </a:path>
              <a:path w="2357" h="4044">
                <a:moveTo>
                  <a:pt x="21779" y="8235"/>
                </a:moveTo>
                <a:cubicBezTo>
                  <a:pt x="21895" y="8224"/>
                  <a:pt x="22010" y="8196"/>
                  <a:pt x="22126" y="8186"/>
                </a:cubicBezTo>
              </a:path>
              <a:path w="2357" h="4044">
                <a:moveTo>
                  <a:pt x="22448" y="8037"/>
                </a:moveTo>
                <a:cubicBezTo>
                  <a:pt x="22448" y="8147"/>
                  <a:pt x="22463" y="8265"/>
                  <a:pt x="22423" y="8359"/>
                </a:cubicBezTo>
              </a:path>
              <a:path w="2357" h="4044">
                <a:moveTo>
                  <a:pt x="22771" y="7938"/>
                </a:moveTo>
                <a:cubicBezTo>
                  <a:pt x="22810" y="7859"/>
                  <a:pt x="22890" y="7872"/>
                  <a:pt x="22969" y="7888"/>
                </a:cubicBezTo>
                <a:cubicBezTo>
                  <a:pt x="22956" y="7988"/>
                  <a:pt x="22920" y="7995"/>
                  <a:pt x="22845" y="8062"/>
                </a:cubicBezTo>
                <a:cubicBezTo>
                  <a:pt x="22823" y="8084"/>
                  <a:pt x="22814" y="8095"/>
                  <a:pt x="22820" y="8062"/>
                </a:cubicBezTo>
                <a:cubicBezTo>
                  <a:pt x="22953" y="8073"/>
                  <a:pt x="23055" y="8096"/>
                  <a:pt x="22994" y="8260"/>
                </a:cubicBezTo>
                <a:cubicBezTo>
                  <a:pt x="22954" y="8369"/>
                  <a:pt x="22853" y="8375"/>
                  <a:pt x="22771" y="83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76960" y="1839960"/>
            <a:ext cx="2081160" cy="160200"/>
          </a:xfrm>
          <a:custGeom>
            <a:avLst/>
            <a:gdLst/>
            <a:ahLst/>
            <a:rect l="l" t="t" r="r" b="b"/>
            <a:pathLst>
              <a:path w="5780" h="447">
                <a:moveTo>
                  <a:pt x="17438" y="5283"/>
                </a:moveTo>
                <a:cubicBezTo>
                  <a:pt x="17438" y="5291"/>
                  <a:pt x="17438" y="5300"/>
                  <a:pt x="17438" y="5308"/>
                </a:cubicBezTo>
              </a:path>
              <a:path w="5780" h="447">
                <a:moveTo>
                  <a:pt x="18355" y="5135"/>
                </a:moveTo>
                <a:cubicBezTo>
                  <a:pt x="18440" y="5128"/>
                  <a:pt x="18519" y="5117"/>
                  <a:pt x="18604" y="5110"/>
                </a:cubicBezTo>
              </a:path>
              <a:path w="5780" h="447">
                <a:moveTo>
                  <a:pt x="20042" y="5283"/>
                </a:moveTo>
                <a:cubicBezTo>
                  <a:pt x="20050" y="5283"/>
                  <a:pt x="20059" y="5283"/>
                  <a:pt x="20067" y="5283"/>
                </a:cubicBezTo>
              </a:path>
              <a:path w="5780" h="447">
                <a:moveTo>
                  <a:pt x="23217" y="5531"/>
                </a:moveTo>
                <a:cubicBezTo>
                  <a:pt x="23217" y="5539"/>
                  <a:pt x="23217" y="5548"/>
                  <a:pt x="23217" y="55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72080" y="1677960"/>
            <a:ext cx="142920" cy="26028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15875" y="4887"/>
                </a:moveTo>
                <a:cubicBezTo>
                  <a:pt x="15863" y="4783"/>
                  <a:pt x="15818" y="4647"/>
                  <a:pt x="15677" y="4663"/>
                </a:cubicBezTo>
                <a:cubicBezTo>
                  <a:pt x="15447" y="4690"/>
                  <a:pt x="15491" y="4945"/>
                  <a:pt x="15553" y="5060"/>
                </a:cubicBezTo>
                <a:cubicBezTo>
                  <a:pt x="15688" y="5009"/>
                  <a:pt x="15768" y="4983"/>
                  <a:pt x="15801" y="4837"/>
                </a:cubicBezTo>
                <a:cubicBezTo>
                  <a:pt x="15850" y="5011"/>
                  <a:pt x="15850" y="5176"/>
                  <a:pt x="15850" y="5358"/>
                </a:cubicBezTo>
                <a:cubicBezTo>
                  <a:pt x="15850" y="5366"/>
                  <a:pt x="15850" y="5375"/>
                  <a:pt x="15850" y="53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75200" y="18572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6346" y="5184"/>
                </a:moveTo>
                <a:cubicBezTo>
                  <a:pt x="16282" y="5184"/>
                  <a:pt x="16505" y="5165"/>
                  <a:pt x="16545" y="5159"/>
                </a:cubicBezTo>
                <a:cubicBezTo>
                  <a:pt x="16570" y="5159"/>
                  <a:pt x="16578" y="5159"/>
                  <a:pt x="16594" y="51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9760" y="172404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7041" y="4887"/>
                </a:moveTo>
                <a:cubicBezTo>
                  <a:pt x="17041" y="4812"/>
                  <a:pt x="17092" y="4805"/>
                  <a:pt x="17165" y="4787"/>
                </a:cubicBezTo>
                <a:cubicBezTo>
                  <a:pt x="17173" y="4787"/>
                  <a:pt x="17182" y="4787"/>
                  <a:pt x="17190" y="4787"/>
                </a:cubicBezTo>
                <a:cubicBezTo>
                  <a:pt x="17236" y="4899"/>
                  <a:pt x="17216" y="4935"/>
                  <a:pt x="17140" y="4986"/>
                </a:cubicBezTo>
                <a:cubicBezTo>
                  <a:pt x="17132" y="4994"/>
                  <a:pt x="17123" y="5003"/>
                  <a:pt x="17115" y="5011"/>
                </a:cubicBezTo>
                <a:cubicBezTo>
                  <a:pt x="17199" y="5011"/>
                  <a:pt x="17206" y="4990"/>
                  <a:pt x="17239" y="5085"/>
                </a:cubicBezTo>
                <a:cubicBezTo>
                  <a:pt x="17299" y="5258"/>
                  <a:pt x="17194" y="5324"/>
                  <a:pt x="17041" y="5333"/>
                </a:cubicBezTo>
                <a:cubicBezTo>
                  <a:pt x="16864" y="5343"/>
                  <a:pt x="16991" y="5333"/>
                  <a:pt x="16917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5240" y="1731960"/>
            <a:ext cx="98640" cy="162000"/>
          </a:xfrm>
          <a:custGeom>
            <a:avLst/>
            <a:gdLst/>
            <a:ahLst/>
            <a:rect l="l" t="t" r="r" b="b"/>
            <a:pathLst>
              <a:path w="273" h="448">
                <a:moveTo>
                  <a:pt x="17859" y="4812"/>
                </a:moveTo>
                <a:cubicBezTo>
                  <a:pt x="17793" y="4812"/>
                  <a:pt x="17776" y="4812"/>
                  <a:pt x="17735" y="4812"/>
                </a:cubicBezTo>
                <a:cubicBezTo>
                  <a:pt x="17706" y="4961"/>
                  <a:pt x="17786" y="4926"/>
                  <a:pt x="17859" y="5060"/>
                </a:cubicBezTo>
                <a:cubicBezTo>
                  <a:pt x="17930" y="5190"/>
                  <a:pt x="17840" y="5236"/>
                  <a:pt x="17735" y="5259"/>
                </a:cubicBezTo>
                <a:cubicBezTo>
                  <a:pt x="17735" y="5115"/>
                  <a:pt x="17780" y="5110"/>
                  <a:pt x="17884" y="5011"/>
                </a:cubicBezTo>
                <a:cubicBezTo>
                  <a:pt x="17921" y="4976"/>
                  <a:pt x="18017" y="4854"/>
                  <a:pt x="17959" y="4812"/>
                </a:cubicBezTo>
                <a:cubicBezTo>
                  <a:pt x="17931" y="4812"/>
                  <a:pt x="17920" y="4814"/>
                  <a:pt x="17909" y="48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080" y="1776240"/>
            <a:ext cx="19080" cy="108000"/>
          </a:xfrm>
          <a:custGeom>
            <a:avLst/>
            <a:gdLst/>
            <a:ahLst/>
            <a:rect l="l" t="t" r="r" b="b"/>
            <a:pathLst>
              <a:path w="50" h="299">
                <a:moveTo>
                  <a:pt x="18430" y="4936"/>
                </a:moveTo>
                <a:cubicBezTo>
                  <a:pt x="18490" y="5017"/>
                  <a:pt x="18474" y="5135"/>
                  <a:pt x="18479" y="52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7360" y="1731960"/>
            <a:ext cx="249480" cy="196920"/>
          </a:xfrm>
          <a:custGeom>
            <a:avLst/>
            <a:gdLst/>
            <a:ahLst/>
            <a:rect l="l" t="t" r="r" b="b"/>
            <a:pathLst>
              <a:path w="695" h="547">
                <a:moveTo>
                  <a:pt x="19075" y="4887"/>
                </a:moveTo>
                <a:cubicBezTo>
                  <a:pt x="19075" y="5036"/>
                  <a:pt x="19075" y="5184"/>
                  <a:pt x="19075" y="5333"/>
                </a:cubicBezTo>
              </a:path>
              <a:path w="695" h="547">
                <a:moveTo>
                  <a:pt x="19348" y="4862"/>
                </a:moveTo>
                <a:cubicBezTo>
                  <a:pt x="19454" y="4831"/>
                  <a:pt x="19516" y="4822"/>
                  <a:pt x="19621" y="4837"/>
                </a:cubicBezTo>
                <a:cubicBezTo>
                  <a:pt x="19641" y="4961"/>
                  <a:pt x="19629" y="5012"/>
                  <a:pt x="19496" y="5060"/>
                </a:cubicBezTo>
                <a:cubicBezTo>
                  <a:pt x="19441" y="5080"/>
                  <a:pt x="19513" y="5041"/>
                  <a:pt x="19521" y="5035"/>
                </a:cubicBezTo>
                <a:cubicBezTo>
                  <a:pt x="19600" y="5045"/>
                  <a:pt x="19872" y="5099"/>
                  <a:pt x="19769" y="5259"/>
                </a:cubicBezTo>
                <a:cubicBezTo>
                  <a:pt x="19688" y="5385"/>
                  <a:pt x="19526" y="5368"/>
                  <a:pt x="19422" y="53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4040" y="1741320"/>
            <a:ext cx="349200" cy="160560"/>
          </a:xfrm>
          <a:custGeom>
            <a:avLst/>
            <a:gdLst/>
            <a:ahLst/>
            <a:rect l="l" t="t" r="r" b="b"/>
            <a:pathLst>
              <a:path w="969" h="447">
                <a:moveTo>
                  <a:pt x="20414" y="4936"/>
                </a:moveTo>
                <a:cubicBezTo>
                  <a:pt x="20320" y="5011"/>
                  <a:pt x="20307" y="5116"/>
                  <a:pt x="20315" y="5234"/>
                </a:cubicBezTo>
                <a:cubicBezTo>
                  <a:pt x="20447" y="5281"/>
                  <a:pt x="20658" y="5282"/>
                  <a:pt x="20638" y="5060"/>
                </a:cubicBezTo>
                <a:cubicBezTo>
                  <a:pt x="20630" y="4969"/>
                  <a:pt x="20502" y="4938"/>
                  <a:pt x="20439" y="4911"/>
                </a:cubicBezTo>
              </a:path>
              <a:path w="969" h="447">
                <a:moveTo>
                  <a:pt x="20811" y="4862"/>
                </a:moveTo>
                <a:cubicBezTo>
                  <a:pt x="20912" y="4845"/>
                  <a:pt x="21004" y="4837"/>
                  <a:pt x="21109" y="4837"/>
                </a:cubicBezTo>
                <a:cubicBezTo>
                  <a:pt x="21117" y="4837"/>
                  <a:pt x="21126" y="4837"/>
                  <a:pt x="21134" y="4837"/>
                </a:cubicBezTo>
                <a:cubicBezTo>
                  <a:pt x="21114" y="4985"/>
                  <a:pt x="21078" y="4969"/>
                  <a:pt x="21010" y="5060"/>
                </a:cubicBezTo>
                <a:cubicBezTo>
                  <a:pt x="21108" y="5046"/>
                  <a:pt x="21170" y="5022"/>
                  <a:pt x="21258" y="5060"/>
                </a:cubicBezTo>
                <a:cubicBezTo>
                  <a:pt x="21221" y="5244"/>
                  <a:pt x="21153" y="5266"/>
                  <a:pt x="20960" y="5283"/>
                </a:cubicBezTo>
                <a:cubicBezTo>
                  <a:pt x="20935" y="5283"/>
                  <a:pt x="20927" y="5283"/>
                  <a:pt x="20910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75720" y="2232000"/>
            <a:ext cx="98280" cy="190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21878" y="6251"/>
                </a:moveTo>
                <a:cubicBezTo>
                  <a:pt x="21947" y="6239"/>
                  <a:pt x="22035" y="6243"/>
                  <a:pt x="22101" y="6226"/>
                </a:cubicBezTo>
                <a:cubicBezTo>
                  <a:pt x="22118" y="6218"/>
                  <a:pt x="22134" y="6209"/>
                  <a:pt x="22151" y="62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1776240"/>
            <a:ext cx="88920" cy="243000"/>
          </a:xfrm>
          <a:custGeom>
            <a:avLst/>
            <a:gdLst/>
            <a:ahLst/>
            <a:rect l="l" t="t" r="r" b="b"/>
            <a:pathLst>
              <a:path w="249" h="671">
                <a:moveTo>
                  <a:pt x="22845" y="5110"/>
                </a:moveTo>
                <a:cubicBezTo>
                  <a:pt x="22876" y="5047"/>
                  <a:pt x="22885" y="5016"/>
                  <a:pt x="22870" y="4961"/>
                </a:cubicBezTo>
                <a:cubicBezTo>
                  <a:pt x="22754" y="4891"/>
                  <a:pt x="22666" y="5050"/>
                  <a:pt x="22647" y="5159"/>
                </a:cubicBezTo>
                <a:cubicBezTo>
                  <a:pt x="22655" y="5176"/>
                  <a:pt x="22663" y="5192"/>
                  <a:pt x="22671" y="5209"/>
                </a:cubicBezTo>
                <a:cubicBezTo>
                  <a:pt x="22840" y="5220"/>
                  <a:pt x="22841" y="5195"/>
                  <a:pt x="22895" y="5035"/>
                </a:cubicBezTo>
                <a:cubicBezTo>
                  <a:pt x="22895" y="5171"/>
                  <a:pt x="22890" y="5295"/>
                  <a:pt x="22870" y="5432"/>
                </a:cubicBezTo>
                <a:cubicBezTo>
                  <a:pt x="22858" y="5511"/>
                  <a:pt x="22845" y="5540"/>
                  <a:pt x="22845" y="56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813040"/>
            <a:ext cx="965160" cy="625320"/>
          </a:xfrm>
          <a:custGeom>
            <a:avLst/>
            <a:gdLst/>
            <a:ahLst/>
            <a:rect l="l" t="t" r="r" b="b"/>
            <a:pathLst>
              <a:path w="2680" h="1738">
                <a:moveTo>
                  <a:pt x="23738" y="7962"/>
                </a:moveTo>
                <a:cubicBezTo>
                  <a:pt x="23643" y="8000"/>
                  <a:pt x="23607" y="8094"/>
                  <a:pt x="23564" y="8186"/>
                </a:cubicBezTo>
                <a:cubicBezTo>
                  <a:pt x="23633" y="8215"/>
                  <a:pt x="23837" y="8223"/>
                  <a:pt x="23837" y="8086"/>
                </a:cubicBezTo>
                <a:cubicBezTo>
                  <a:pt x="23837" y="8023"/>
                  <a:pt x="23778" y="7977"/>
                  <a:pt x="23738" y="7938"/>
                </a:cubicBezTo>
              </a:path>
              <a:path w="2680" h="1738">
                <a:moveTo>
                  <a:pt x="24085" y="7888"/>
                </a:moveTo>
                <a:cubicBezTo>
                  <a:pt x="24154" y="7833"/>
                  <a:pt x="24179" y="7818"/>
                  <a:pt x="24259" y="7838"/>
                </a:cubicBezTo>
                <a:cubicBezTo>
                  <a:pt x="24287" y="7880"/>
                  <a:pt x="24230" y="8002"/>
                  <a:pt x="24135" y="8012"/>
                </a:cubicBezTo>
                <a:cubicBezTo>
                  <a:pt x="24135" y="8004"/>
                  <a:pt x="24135" y="7995"/>
                  <a:pt x="24135" y="7987"/>
                </a:cubicBezTo>
                <a:cubicBezTo>
                  <a:pt x="24225" y="7987"/>
                  <a:pt x="24253" y="7997"/>
                  <a:pt x="24309" y="8062"/>
                </a:cubicBezTo>
                <a:cubicBezTo>
                  <a:pt x="24278" y="8185"/>
                  <a:pt x="24207" y="8177"/>
                  <a:pt x="24085" y="8186"/>
                </a:cubicBezTo>
              </a:path>
              <a:path w="2680" h="1738">
                <a:moveTo>
                  <a:pt x="22151" y="8632"/>
                </a:moveTo>
                <a:cubicBezTo>
                  <a:pt x="22571" y="8548"/>
                  <a:pt x="22988" y="8488"/>
                  <a:pt x="23416" y="8458"/>
                </a:cubicBezTo>
                <a:cubicBezTo>
                  <a:pt x="23781" y="8432"/>
                  <a:pt x="24142" y="8434"/>
                  <a:pt x="24507" y="8434"/>
                </a:cubicBezTo>
              </a:path>
              <a:path w="2680" h="1738">
                <a:moveTo>
                  <a:pt x="24284" y="8582"/>
                </a:moveTo>
                <a:cubicBezTo>
                  <a:pt x="24351" y="8590"/>
                  <a:pt x="24485" y="8590"/>
                  <a:pt x="24507" y="8657"/>
                </a:cubicBezTo>
                <a:cubicBezTo>
                  <a:pt x="24522" y="8703"/>
                  <a:pt x="24387" y="8762"/>
                  <a:pt x="24358" y="8781"/>
                </a:cubicBezTo>
                <a:cubicBezTo>
                  <a:pt x="24350" y="8781"/>
                  <a:pt x="24341" y="8781"/>
                  <a:pt x="24333" y="8781"/>
                </a:cubicBezTo>
                <a:cubicBezTo>
                  <a:pt x="24376" y="8790"/>
                  <a:pt x="24460" y="8816"/>
                  <a:pt x="24457" y="8880"/>
                </a:cubicBezTo>
                <a:cubicBezTo>
                  <a:pt x="24450" y="9010"/>
                  <a:pt x="24291" y="8979"/>
                  <a:pt x="24209" y="8979"/>
                </a:cubicBezTo>
                <a:cubicBezTo>
                  <a:pt x="24177" y="8979"/>
                  <a:pt x="24169" y="8971"/>
                  <a:pt x="24185" y="8930"/>
                </a:cubicBezTo>
              </a:path>
              <a:path w="2680" h="1738">
                <a:moveTo>
                  <a:pt x="23812" y="8682"/>
                </a:moveTo>
                <a:cubicBezTo>
                  <a:pt x="23840" y="8654"/>
                  <a:pt x="23854" y="8645"/>
                  <a:pt x="23887" y="8657"/>
                </a:cubicBezTo>
                <a:cubicBezTo>
                  <a:pt x="23945" y="8759"/>
                  <a:pt x="23934" y="8889"/>
                  <a:pt x="23837" y="8979"/>
                </a:cubicBezTo>
                <a:cubicBezTo>
                  <a:pt x="23735" y="9074"/>
                  <a:pt x="23627" y="9017"/>
                  <a:pt x="23564" y="8930"/>
                </a:cubicBezTo>
                <a:cubicBezTo>
                  <a:pt x="23664" y="8915"/>
                  <a:pt x="23731" y="8905"/>
                  <a:pt x="23812" y="8979"/>
                </a:cubicBezTo>
                <a:cubicBezTo>
                  <a:pt x="23820" y="8987"/>
                  <a:pt x="23829" y="8996"/>
                  <a:pt x="23837" y="9004"/>
                </a:cubicBezTo>
              </a:path>
              <a:path w="2680" h="1738">
                <a:moveTo>
                  <a:pt x="23168" y="9004"/>
                </a:moveTo>
                <a:cubicBezTo>
                  <a:pt x="23168" y="9047"/>
                  <a:pt x="23185" y="9012"/>
                  <a:pt x="23217" y="9004"/>
                </a:cubicBezTo>
              </a:path>
              <a:path w="2680" h="1738">
                <a:moveTo>
                  <a:pt x="22969" y="8756"/>
                </a:moveTo>
                <a:cubicBezTo>
                  <a:pt x="22916" y="8729"/>
                  <a:pt x="22820" y="8755"/>
                  <a:pt x="22771" y="8830"/>
                </a:cubicBezTo>
                <a:cubicBezTo>
                  <a:pt x="22709" y="8925"/>
                  <a:pt x="22836" y="8948"/>
                  <a:pt x="22845" y="9029"/>
                </a:cubicBezTo>
                <a:cubicBezTo>
                  <a:pt x="22855" y="9118"/>
                  <a:pt x="22821" y="9128"/>
                  <a:pt x="22746" y="9128"/>
                </a:cubicBezTo>
                <a:cubicBezTo>
                  <a:pt x="22719" y="8968"/>
                  <a:pt x="22775" y="8994"/>
                  <a:pt x="22870" y="8880"/>
                </a:cubicBezTo>
                <a:cubicBezTo>
                  <a:pt x="22918" y="8822"/>
                  <a:pt x="22933" y="8777"/>
                  <a:pt x="22944" y="8706"/>
                </a:cubicBezTo>
              </a:path>
              <a:path w="2680" h="1738">
                <a:moveTo>
                  <a:pt x="22498" y="8781"/>
                </a:moveTo>
                <a:cubicBezTo>
                  <a:pt x="22498" y="8891"/>
                  <a:pt x="22462" y="8995"/>
                  <a:pt x="22448" y="9103"/>
                </a:cubicBezTo>
                <a:cubicBezTo>
                  <a:pt x="22441" y="9158"/>
                  <a:pt x="22431" y="9172"/>
                  <a:pt x="22423" y="9227"/>
                </a:cubicBezTo>
              </a:path>
              <a:path w="2680" h="1738">
                <a:moveTo>
                  <a:pt x="22200" y="9451"/>
                </a:moveTo>
                <a:cubicBezTo>
                  <a:pt x="22395" y="9507"/>
                  <a:pt x="22563" y="9542"/>
                  <a:pt x="22771" y="9550"/>
                </a:cubicBezTo>
                <a:cubicBezTo>
                  <a:pt x="23074" y="9562"/>
                  <a:pt x="23387" y="9549"/>
                  <a:pt x="23688" y="9525"/>
                </a:cubicBezTo>
                <a:cubicBezTo>
                  <a:pt x="23887" y="9509"/>
                  <a:pt x="24079" y="9486"/>
                  <a:pt x="24259" y="9401"/>
                </a:cubicBezTo>
                <a:cubicBezTo>
                  <a:pt x="24378" y="9344"/>
                  <a:pt x="24495" y="9274"/>
                  <a:pt x="24606" y="9203"/>
                </a:cubicBezTo>
                <a:cubicBezTo>
                  <a:pt x="24696" y="9145"/>
                  <a:pt x="24763" y="9041"/>
                  <a:pt x="24780" y="8930"/>
                </a:cubicBezTo>
                <a:cubicBezTo>
                  <a:pt x="24795" y="8833"/>
                  <a:pt x="24749" y="8718"/>
                  <a:pt x="24705" y="8632"/>
                </a:cubicBezTo>
                <a:cubicBezTo>
                  <a:pt x="24663" y="8550"/>
                  <a:pt x="24621" y="8447"/>
                  <a:pt x="24532" y="8409"/>
                </a:cubicBezTo>
                <a:cubicBezTo>
                  <a:pt x="24381" y="8344"/>
                  <a:pt x="24224" y="8334"/>
                  <a:pt x="24061" y="8334"/>
                </a:cubicBezTo>
                <a:cubicBezTo>
                  <a:pt x="23909" y="8334"/>
                  <a:pt x="23764" y="8350"/>
                  <a:pt x="23614" y="8359"/>
                </a:cubicBezTo>
                <a:cubicBezTo>
                  <a:pt x="23411" y="8371"/>
                  <a:pt x="23215" y="8398"/>
                  <a:pt x="23019" y="8458"/>
                </a:cubicBezTo>
                <a:cubicBezTo>
                  <a:pt x="22856" y="8508"/>
                  <a:pt x="22679" y="8566"/>
                  <a:pt x="22523" y="8632"/>
                </a:cubicBezTo>
                <a:cubicBezTo>
                  <a:pt x="22434" y="8670"/>
                  <a:pt x="22205" y="8746"/>
                  <a:pt x="22151" y="8830"/>
                </a:cubicBezTo>
                <a:cubicBezTo>
                  <a:pt x="22108" y="8898"/>
                  <a:pt x="22065" y="9130"/>
                  <a:pt x="22101" y="9203"/>
                </a:cubicBezTo>
                <a:cubicBezTo>
                  <a:pt x="22166" y="9337"/>
                  <a:pt x="22286" y="9379"/>
                  <a:pt x="22423" y="9401"/>
                </a:cubicBezTo>
                <a:cubicBezTo>
                  <a:pt x="22556" y="9422"/>
                  <a:pt x="22702" y="9418"/>
                  <a:pt x="22820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3340080"/>
            <a:ext cx="1197000" cy="115920"/>
          </a:xfrm>
          <a:custGeom>
            <a:avLst/>
            <a:gdLst/>
            <a:ahLst/>
            <a:rect l="l" t="t" r="r" b="b"/>
            <a:pathLst>
              <a:path w="3325" h="323">
                <a:moveTo>
                  <a:pt x="4390" y="9525"/>
                </a:moveTo>
                <a:cubicBezTo>
                  <a:pt x="4398" y="9525"/>
                  <a:pt x="4407" y="9525"/>
                  <a:pt x="4415" y="9525"/>
                </a:cubicBezTo>
              </a:path>
              <a:path w="3325" h="323">
                <a:moveTo>
                  <a:pt x="4564" y="9302"/>
                </a:moveTo>
                <a:cubicBezTo>
                  <a:pt x="4522" y="9422"/>
                  <a:pt x="4493" y="9480"/>
                  <a:pt x="4514" y="9599"/>
                </a:cubicBezTo>
                <a:cubicBezTo>
                  <a:pt x="4676" y="9569"/>
                  <a:pt x="4803" y="9510"/>
                  <a:pt x="4688" y="9327"/>
                </a:cubicBezTo>
                <a:cubicBezTo>
                  <a:pt x="4649" y="9288"/>
                  <a:pt x="4648" y="9271"/>
                  <a:pt x="4614" y="9277"/>
                </a:cubicBezTo>
              </a:path>
              <a:path w="3325" h="323">
                <a:moveTo>
                  <a:pt x="7689" y="9351"/>
                </a:moveTo>
                <a:cubicBezTo>
                  <a:pt x="7689" y="9376"/>
                  <a:pt x="7689" y="9384"/>
                  <a:pt x="7714" y="93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66920" y="334008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3820" y="9376"/>
                </a:moveTo>
                <a:cubicBezTo>
                  <a:pt x="3790" y="9406"/>
                  <a:pt x="3756" y="9637"/>
                  <a:pt x="3795" y="9699"/>
                </a:cubicBezTo>
                <a:cubicBezTo>
                  <a:pt x="3803" y="9682"/>
                  <a:pt x="3812" y="9666"/>
                  <a:pt x="3820" y="9649"/>
                </a:cubicBezTo>
              </a:path>
              <a:path w="348" h="423">
                <a:moveTo>
                  <a:pt x="3919" y="9327"/>
                </a:moveTo>
                <a:cubicBezTo>
                  <a:pt x="3956" y="9315"/>
                  <a:pt x="4103" y="9237"/>
                  <a:pt x="4093" y="9327"/>
                </a:cubicBezTo>
                <a:cubicBezTo>
                  <a:pt x="4069" y="9399"/>
                  <a:pt x="4062" y="9422"/>
                  <a:pt x="4018" y="9451"/>
                </a:cubicBezTo>
                <a:cubicBezTo>
                  <a:pt x="4010" y="9451"/>
                  <a:pt x="4002" y="9451"/>
                  <a:pt x="3994" y="9451"/>
                </a:cubicBezTo>
                <a:cubicBezTo>
                  <a:pt x="4050" y="9394"/>
                  <a:pt x="4123" y="9431"/>
                  <a:pt x="4142" y="9525"/>
                </a:cubicBezTo>
                <a:cubicBezTo>
                  <a:pt x="4161" y="9622"/>
                  <a:pt x="4067" y="9719"/>
                  <a:pt x="3969" y="9674"/>
                </a:cubicBezTo>
                <a:cubicBezTo>
                  <a:pt x="3961" y="9666"/>
                  <a:pt x="3952" y="9657"/>
                  <a:pt x="3944" y="96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8320" y="3321000"/>
            <a:ext cx="8100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4936" y="9252"/>
                </a:moveTo>
                <a:cubicBezTo>
                  <a:pt x="4939" y="9251"/>
                  <a:pt x="5188" y="9188"/>
                  <a:pt x="5110" y="9277"/>
                </a:cubicBezTo>
                <a:cubicBezTo>
                  <a:pt x="5041" y="9323"/>
                  <a:pt x="5021" y="9335"/>
                  <a:pt x="4986" y="9376"/>
                </a:cubicBezTo>
                <a:cubicBezTo>
                  <a:pt x="5063" y="9361"/>
                  <a:pt x="5123" y="9336"/>
                  <a:pt x="5135" y="9475"/>
                </a:cubicBezTo>
                <a:cubicBezTo>
                  <a:pt x="5146" y="9604"/>
                  <a:pt x="5004" y="9583"/>
                  <a:pt x="4936" y="9575"/>
                </a:cubicBezTo>
                <a:cubicBezTo>
                  <a:pt x="4911" y="9575"/>
                  <a:pt x="4903" y="9575"/>
                  <a:pt x="4911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55880" y="3384720"/>
            <a:ext cx="7128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5432" y="9401"/>
                </a:moveTo>
                <a:cubicBezTo>
                  <a:pt x="5498" y="9401"/>
                  <a:pt x="5565" y="9401"/>
                  <a:pt x="5631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08160" y="3286080"/>
            <a:ext cx="1238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6102" y="9277"/>
                </a:moveTo>
                <a:cubicBezTo>
                  <a:pt x="6102" y="9213"/>
                  <a:pt x="6106" y="9181"/>
                  <a:pt x="6052" y="9153"/>
                </a:cubicBezTo>
                <a:cubicBezTo>
                  <a:pt x="5943" y="9098"/>
                  <a:pt x="5899" y="9220"/>
                  <a:pt x="5854" y="9302"/>
                </a:cubicBezTo>
                <a:cubicBezTo>
                  <a:pt x="5947" y="9338"/>
                  <a:pt x="6055" y="9373"/>
                  <a:pt x="6127" y="9252"/>
                </a:cubicBezTo>
                <a:cubicBezTo>
                  <a:pt x="6129" y="9248"/>
                  <a:pt x="6127" y="9159"/>
                  <a:pt x="6127" y="9227"/>
                </a:cubicBezTo>
                <a:cubicBezTo>
                  <a:pt x="6127" y="9308"/>
                  <a:pt x="6127" y="9628"/>
                  <a:pt x="6127" y="9624"/>
                </a:cubicBezTo>
                <a:cubicBezTo>
                  <a:pt x="6127" y="9572"/>
                  <a:pt x="6146" y="9545"/>
                  <a:pt x="6201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4000" y="330372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6722" y="9178"/>
                </a:moveTo>
                <a:cubicBezTo>
                  <a:pt x="6748" y="9268"/>
                  <a:pt x="6772" y="9451"/>
                  <a:pt x="6772" y="9451"/>
                </a:cubicBezTo>
                <a:cubicBezTo>
                  <a:pt x="6772" y="9443"/>
                  <a:pt x="6772" y="9434"/>
                  <a:pt x="6772" y="9426"/>
                </a:cubicBezTo>
              </a:path>
              <a:path w="249" h="274">
                <a:moveTo>
                  <a:pt x="6648" y="9351"/>
                </a:moveTo>
                <a:cubicBezTo>
                  <a:pt x="6715" y="9325"/>
                  <a:pt x="6815" y="9330"/>
                  <a:pt x="6871" y="9302"/>
                </a:cubicBezTo>
                <a:cubicBezTo>
                  <a:pt x="6879" y="9294"/>
                  <a:pt x="6888" y="9285"/>
                  <a:pt x="6896" y="927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8840" y="3241800"/>
            <a:ext cx="115920" cy="15228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7243" y="9103"/>
                </a:moveTo>
                <a:cubicBezTo>
                  <a:pt x="7153" y="9074"/>
                  <a:pt x="7339" y="9039"/>
                  <a:pt x="7367" y="9029"/>
                </a:cubicBezTo>
                <a:cubicBezTo>
                  <a:pt x="7424" y="9010"/>
                  <a:pt x="7449" y="8984"/>
                  <a:pt x="7441" y="9029"/>
                </a:cubicBezTo>
                <a:cubicBezTo>
                  <a:pt x="7422" y="9105"/>
                  <a:pt x="7412" y="9109"/>
                  <a:pt x="7342" y="9153"/>
                </a:cubicBezTo>
                <a:cubicBezTo>
                  <a:pt x="7416" y="9153"/>
                  <a:pt x="7525" y="9150"/>
                  <a:pt x="7541" y="9252"/>
                </a:cubicBezTo>
                <a:cubicBezTo>
                  <a:pt x="7566" y="9407"/>
                  <a:pt x="7421" y="9421"/>
                  <a:pt x="7317" y="9426"/>
                </a:cubicBezTo>
                <a:cubicBezTo>
                  <a:pt x="7309" y="9426"/>
                  <a:pt x="7301" y="9426"/>
                  <a:pt x="7293" y="94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0040" y="3268800"/>
            <a:ext cx="71280" cy="11592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8037" y="9079"/>
                </a:moveTo>
                <a:cubicBezTo>
                  <a:pt x="7953" y="9079"/>
                  <a:pt x="7933" y="9073"/>
                  <a:pt x="7888" y="9103"/>
                </a:cubicBezTo>
                <a:cubicBezTo>
                  <a:pt x="7908" y="9195"/>
                  <a:pt x="8033" y="9268"/>
                  <a:pt x="8037" y="9351"/>
                </a:cubicBezTo>
                <a:cubicBezTo>
                  <a:pt x="8029" y="9368"/>
                  <a:pt x="8020" y="9384"/>
                  <a:pt x="8012" y="9401"/>
                </a:cubicBezTo>
                <a:cubicBezTo>
                  <a:pt x="7896" y="9378"/>
                  <a:pt x="7942" y="9337"/>
                  <a:pt x="7987" y="9252"/>
                </a:cubicBezTo>
                <a:cubicBezTo>
                  <a:pt x="8021" y="9188"/>
                  <a:pt x="8148" y="9073"/>
                  <a:pt x="8012" y="91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0080" y="3375000"/>
            <a:ext cx="79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5776" y="9376"/>
                </a:moveTo>
                <a:cubicBezTo>
                  <a:pt x="15776" y="9401"/>
                  <a:pt x="15776" y="9409"/>
                  <a:pt x="15801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9800" y="326880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5056" y="9203"/>
                </a:moveTo>
                <a:cubicBezTo>
                  <a:pt x="15056" y="9321"/>
                  <a:pt x="15073" y="9433"/>
                  <a:pt x="15081" y="9550"/>
                </a:cubicBezTo>
              </a:path>
              <a:path w="448" h="472">
                <a:moveTo>
                  <a:pt x="15230" y="9153"/>
                </a:moveTo>
                <a:cubicBezTo>
                  <a:pt x="15269" y="9134"/>
                  <a:pt x="15405" y="9025"/>
                  <a:pt x="15429" y="9103"/>
                </a:cubicBezTo>
                <a:cubicBezTo>
                  <a:pt x="15429" y="9160"/>
                  <a:pt x="15424" y="9181"/>
                  <a:pt x="15379" y="9203"/>
                </a:cubicBezTo>
                <a:cubicBezTo>
                  <a:pt x="15371" y="9211"/>
                  <a:pt x="15362" y="9219"/>
                  <a:pt x="15354" y="9227"/>
                </a:cubicBezTo>
                <a:cubicBezTo>
                  <a:pt x="15473" y="9238"/>
                  <a:pt x="15550" y="9288"/>
                  <a:pt x="15478" y="9426"/>
                </a:cubicBezTo>
                <a:cubicBezTo>
                  <a:pt x="15441" y="9498"/>
                  <a:pt x="15369" y="9475"/>
                  <a:pt x="15304" y="94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3251160"/>
            <a:ext cx="223920" cy="14292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5949" y="9128"/>
                </a:moveTo>
                <a:cubicBezTo>
                  <a:pt x="15854" y="9224"/>
                  <a:pt x="15860" y="9293"/>
                  <a:pt x="15925" y="9401"/>
                </a:cubicBezTo>
                <a:cubicBezTo>
                  <a:pt x="16108" y="9370"/>
                  <a:pt x="16072" y="9320"/>
                  <a:pt x="16049" y="9153"/>
                </a:cubicBezTo>
                <a:cubicBezTo>
                  <a:pt x="16049" y="9120"/>
                  <a:pt x="16041" y="9111"/>
                  <a:pt x="15999" y="9128"/>
                </a:cubicBezTo>
              </a:path>
              <a:path w="621" h="398">
                <a:moveTo>
                  <a:pt x="16222" y="9079"/>
                </a:moveTo>
                <a:cubicBezTo>
                  <a:pt x="16286" y="9036"/>
                  <a:pt x="16383" y="8978"/>
                  <a:pt x="16421" y="9079"/>
                </a:cubicBezTo>
                <a:cubicBezTo>
                  <a:pt x="16444" y="9138"/>
                  <a:pt x="16381" y="9168"/>
                  <a:pt x="16346" y="9203"/>
                </a:cubicBezTo>
                <a:cubicBezTo>
                  <a:pt x="16446" y="9153"/>
                  <a:pt x="16512" y="9204"/>
                  <a:pt x="16495" y="9327"/>
                </a:cubicBezTo>
                <a:cubicBezTo>
                  <a:pt x="16478" y="9452"/>
                  <a:pt x="16241" y="9418"/>
                  <a:pt x="16247" y="9401"/>
                </a:cubicBezTo>
                <a:cubicBezTo>
                  <a:pt x="16264" y="9401"/>
                  <a:pt x="16280" y="9401"/>
                  <a:pt x="16297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3295800"/>
            <a:ext cx="125280" cy="982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6991" y="9153"/>
                </a:moveTo>
                <a:cubicBezTo>
                  <a:pt x="16994" y="9206"/>
                  <a:pt x="17016" y="9443"/>
                  <a:pt x="17016" y="9401"/>
                </a:cubicBezTo>
              </a:path>
              <a:path w="349" h="274">
                <a:moveTo>
                  <a:pt x="16842" y="9302"/>
                </a:moveTo>
                <a:cubicBezTo>
                  <a:pt x="16960" y="9278"/>
                  <a:pt x="17070" y="9252"/>
                  <a:pt x="17190" y="92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3040" y="3214800"/>
            <a:ext cx="10620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17810" y="9153"/>
                </a:moveTo>
                <a:cubicBezTo>
                  <a:pt x="17828" y="9080"/>
                  <a:pt x="17859" y="8941"/>
                  <a:pt x="17735" y="8930"/>
                </a:cubicBezTo>
                <a:cubicBezTo>
                  <a:pt x="17652" y="8922"/>
                  <a:pt x="17601" y="9001"/>
                  <a:pt x="17562" y="9054"/>
                </a:cubicBezTo>
                <a:cubicBezTo>
                  <a:pt x="17625" y="9127"/>
                  <a:pt x="17733" y="9163"/>
                  <a:pt x="17810" y="9054"/>
                </a:cubicBezTo>
                <a:cubicBezTo>
                  <a:pt x="17810" y="9037"/>
                  <a:pt x="17810" y="9021"/>
                  <a:pt x="17810" y="9004"/>
                </a:cubicBezTo>
                <a:cubicBezTo>
                  <a:pt x="17865" y="9022"/>
                  <a:pt x="17829" y="9147"/>
                  <a:pt x="17835" y="9203"/>
                </a:cubicBezTo>
                <a:cubicBezTo>
                  <a:pt x="17843" y="9286"/>
                  <a:pt x="17859" y="9329"/>
                  <a:pt x="17859" y="94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70800" y="4106880"/>
            <a:ext cx="172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579" y="11410"/>
                </a:moveTo>
                <a:cubicBezTo>
                  <a:pt x="18579" y="11544"/>
                  <a:pt x="18596" y="11666"/>
                  <a:pt x="18529" y="117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8640" y="3867120"/>
            <a:ext cx="812520" cy="196920"/>
          </a:xfrm>
          <a:custGeom>
            <a:avLst/>
            <a:gdLst/>
            <a:ahLst/>
            <a:rect l="l" t="t" r="r" b="b"/>
            <a:pathLst>
              <a:path w="2258" h="547">
                <a:moveTo>
                  <a:pt x="19050" y="10889"/>
                </a:moveTo>
                <a:cubicBezTo>
                  <a:pt x="18995" y="10980"/>
                  <a:pt x="19046" y="11126"/>
                  <a:pt x="19050" y="11237"/>
                </a:cubicBezTo>
                <a:cubicBezTo>
                  <a:pt x="19050" y="11286"/>
                  <a:pt x="19050" y="11302"/>
                  <a:pt x="19050" y="11237"/>
                </a:cubicBezTo>
              </a:path>
              <a:path w="2258" h="547">
                <a:moveTo>
                  <a:pt x="19273" y="10840"/>
                </a:moveTo>
                <a:cubicBezTo>
                  <a:pt x="19303" y="10821"/>
                  <a:pt x="19559" y="10683"/>
                  <a:pt x="19571" y="10790"/>
                </a:cubicBezTo>
                <a:cubicBezTo>
                  <a:pt x="19582" y="10891"/>
                  <a:pt x="19462" y="10912"/>
                  <a:pt x="19397" y="10939"/>
                </a:cubicBezTo>
                <a:cubicBezTo>
                  <a:pt x="19508" y="10939"/>
                  <a:pt x="19684" y="10913"/>
                  <a:pt x="19720" y="11063"/>
                </a:cubicBezTo>
                <a:cubicBezTo>
                  <a:pt x="19765" y="11252"/>
                  <a:pt x="19516" y="11322"/>
                  <a:pt x="19397" y="11237"/>
                </a:cubicBezTo>
                <a:cubicBezTo>
                  <a:pt x="19389" y="11220"/>
                  <a:pt x="19380" y="11204"/>
                  <a:pt x="19372" y="11187"/>
                </a:cubicBezTo>
              </a:path>
              <a:path w="2258" h="547">
                <a:moveTo>
                  <a:pt x="20067" y="11137"/>
                </a:moveTo>
                <a:cubicBezTo>
                  <a:pt x="20067" y="11180"/>
                  <a:pt x="20057" y="11175"/>
                  <a:pt x="20092" y="11187"/>
                </a:cubicBezTo>
              </a:path>
              <a:path w="2258" h="547">
                <a:moveTo>
                  <a:pt x="20414" y="10864"/>
                </a:moveTo>
                <a:cubicBezTo>
                  <a:pt x="20321" y="10853"/>
                  <a:pt x="20212" y="10964"/>
                  <a:pt x="20265" y="11088"/>
                </a:cubicBezTo>
                <a:cubicBezTo>
                  <a:pt x="20337" y="11258"/>
                  <a:pt x="20613" y="11100"/>
                  <a:pt x="20613" y="10964"/>
                </a:cubicBezTo>
                <a:cubicBezTo>
                  <a:pt x="20613" y="10888"/>
                  <a:pt x="20509" y="10870"/>
                  <a:pt x="20464" y="10840"/>
                </a:cubicBezTo>
              </a:path>
              <a:path w="2258" h="547">
                <a:moveTo>
                  <a:pt x="20836" y="10790"/>
                </a:moveTo>
                <a:cubicBezTo>
                  <a:pt x="20920" y="10764"/>
                  <a:pt x="21068" y="10679"/>
                  <a:pt x="21084" y="10790"/>
                </a:cubicBezTo>
                <a:cubicBezTo>
                  <a:pt x="21084" y="10863"/>
                  <a:pt x="21085" y="10887"/>
                  <a:pt x="21034" y="10914"/>
                </a:cubicBezTo>
                <a:cubicBezTo>
                  <a:pt x="21026" y="10914"/>
                  <a:pt x="21018" y="10914"/>
                  <a:pt x="21010" y="10914"/>
                </a:cubicBezTo>
                <a:cubicBezTo>
                  <a:pt x="21093" y="10914"/>
                  <a:pt x="21200" y="10916"/>
                  <a:pt x="21258" y="10988"/>
                </a:cubicBezTo>
                <a:cubicBezTo>
                  <a:pt x="21353" y="11105"/>
                  <a:pt x="21156" y="11155"/>
                  <a:pt x="21084" y="11162"/>
                </a:cubicBezTo>
                <a:cubicBezTo>
                  <a:pt x="21067" y="11162"/>
                  <a:pt x="21051" y="11162"/>
                  <a:pt x="21034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80160" y="41608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8554" y="11584"/>
                </a:moveTo>
                <a:cubicBezTo>
                  <a:pt x="18719" y="11560"/>
                  <a:pt x="18768" y="11552"/>
                  <a:pt x="18876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66000" y="4133880"/>
            <a:ext cx="1332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9645" y="11584"/>
                </a:moveTo>
                <a:cubicBezTo>
                  <a:pt x="19610" y="11535"/>
                  <a:pt x="19641" y="11481"/>
                  <a:pt x="19546" y="11485"/>
                </a:cubicBezTo>
                <a:cubicBezTo>
                  <a:pt x="19432" y="11489"/>
                  <a:pt x="19394" y="11579"/>
                  <a:pt x="19348" y="11658"/>
                </a:cubicBezTo>
                <a:cubicBezTo>
                  <a:pt x="19515" y="11719"/>
                  <a:pt x="19521" y="11691"/>
                  <a:pt x="19645" y="11609"/>
                </a:cubicBezTo>
                <a:cubicBezTo>
                  <a:pt x="19670" y="11609"/>
                  <a:pt x="19678" y="11609"/>
                  <a:pt x="19670" y="11584"/>
                </a:cubicBezTo>
                <a:cubicBezTo>
                  <a:pt x="19694" y="11678"/>
                  <a:pt x="19710" y="11798"/>
                  <a:pt x="19720" y="11906"/>
                </a:cubicBezTo>
                <a:cubicBezTo>
                  <a:pt x="19720" y="11923"/>
                  <a:pt x="19720" y="11939"/>
                  <a:pt x="19720" y="1195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42120" y="425916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20117" y="11832"/>
                </a:moveTo>
                <a:cubicBezTo>
                  <a:pt x="20117" y="11890"/>
                  <a:pt x="20104" y="11871"/>
                  <a:pt x="20166" y="118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3760" y="4179960"/>
            <a:ext cx="98280" cy="10620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20489" y="11609"/>
                </a:moveTo>
                <a:cubicBezTo>
                  <a:pt x="20358" y="11652"/>
                  <a:pt x="20341" y="11734"/>
                  <a:pt x="20315" y="11857"/>
                </a:cubicBezTo>
                <a:cubicBezTo>
                  <a:pt x="20422" y="11887"/>
                  <a:pt x="20644" y="11883"/>
                  <a:pt x="20588" y="11683"/>
                </a:cubicBezTo>
                <a:cubicBezTo>
                  <a:pt x="20542" y="11637"/>
                  <a:pt x="20530" y="11623"/>
                  <a:pt x="20489" y="116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0320" y="4160880"/>
            <a:ext cx="125640" cy="1173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20985" y="11609"/>
                </a:moveTo>
                <a:cubicBezTo>
                  <a:pt x="20899" y="11686"/>
                  <a:pt x="20756" y="11868"/>
                  <a:pt x="20985" y="11881"/>
                </a:cubicBezTo>
                <a:cubicBezTo>
                  <a:pt x="21162" y="11891"/>
                  <a:pt x="21283" y="11707"/>
                  <a:pt x="21134" y="11584"/>
                </a:cubicBezTo>
                <a:cubicBezTo>
                  <a:pt x="21109" y="11576"/>
                  <a:pt x="21084" y="11567"/>
                  <a:pt x="21059" y="115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59720" y="4295880"/>
            <a:ext cx="804600" cy="98280"/>
          </a:xfrm>
          <a:custGeom>
            <a:avLst/>
            <a:gdLst/>
            <a:ahLst/>
            <a:rect l="l" t="t" r="r" b="b"/>
            <a:pathLst>
              <a:path w="2234" h="274">
                <a:moveTo>
                  <a:pt x="18777" y="12204"/>
                </a:moveTo>
                <a:cubicBezTo>
                  <a:pt x="19344" y="12111"/>
                  <a:pt x="19917" y="12019"/>
                  <a:pt x="20489" y="11956"/>
                </a:cubicBezTo>
                <a:cubicBezTo>
                  <a:pt x="20685" y="11934"/>
                  <a:pt x="20825" y="11936"/>
                  <a:pt x="2101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72240" y="439416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21059" y="12229"/>
                </a:moveTo>
                <a:cubicBezTo>
                  <a:pt x="21144" y="12229"/>
                  <a:pt x="21223" y="12211"/>
                  <a:pt x="21307" y="12204"/>
                </a:cubicBezTo>
                <a:cubicBezTo>
                  <a:pt x="21273" y="12274"/>
                  <a:pt x="21166" y="12270"/>
                  <a:pt x="21109" y="12328"/>
                </a:cubicBezTo>
                <a:cubicBezTo>
                  <a:pt x="21055" y="12383"/>
                  <a:pt x="21256" y="12344"/>
                  <a:pt x="21307" y="12402"/>
                </a:cubicBezTo>
                <a:cubicBezTo>
                  <a:pt x="21288" y="12480"/>
                  <a:pt x="21186" y="12588"/>
                  <a:pt x="21084" y="12526"/>
                </a:cubicBezTo>
                <a:cubicBezTo>
                  <a:pt x="21067" y="12501"/>
                  <a:pt x="21051" y="12477"/>
                  <a:pt x="21034" y="1245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04040" y="438480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20613" y="12229"/>
                </a:moveTo>
                <a:cubicBezTo>
                  <a:pt x="20460" y="12287"/>
                  <a:pt x="20374" y="12340"/>
                  <a:pt x="20290" y="12477"/>
                </a:cubicBezTo>
                <a:cubicBezTo>
                  <a:pt x="20402" y="12588"/>
                  <a:pt x="20558" y="12614"/>
                  <a:pt x="20638" y="12427"/>
                </a:cubicBezTo>
                <a:cubicBezTo>
                  <a:pt x="20707" y="12265"/>
                  <a:pt x="20652" y="12152"/>
                  <a:pt x="20513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24840" y="4500720"/>
            <a:ext cx="936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20092" y="12502"/>
                </a:moveTo>
                <a:cubicBezTo>
                  <a:pt x="20073" y="12553"/>
                  <a:pt x="20067" y="12572"/>
                  <a:pt x="20067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7920" y="4419720"/>
            <a:ext cx="169920" cy="215640"/>
          </a:xfrm>
          <a:custGeom>
            <a:avLst/>
            <a:gdLst/>
            <a:ahLst/>
            <a:rect l="l" t="t" r="r" b="b"/>
            <a:pathLst>
              <a:path w="473" h="597">
                <a:moveTo>
                  <a:pt x="19670" y="12378"/>
                </a:moveTo>
                <a:cubicBezTo>
                  <a:pt x="19632" y="12359"/>
                  <a:pt x="19697" y="12313"/>
                  <a:pt x="19745" y="12303"/>
                </a:cubicBezTo>
                <a:cubicBezTo>
                  <a:pt x="19798" y="12292"/>
                  <a:pt x="19800" y="12285"/>
                  <a:pt x="19844" y="12303"/>
                </a:cubicBezTo>
                <a:cubicBezTo>
                  <a:pt x="19889" y="12438"/>
                  <a:pt x="19838" y="12516"/>
                  <a:pt x="19745" y="12626"/>
                </a:cubicBezTo>
                <a:cubicBezTo>
                  <a:pt x="19688" y="12693"/>
                  <a:pt x="19556" y="12804"/>
                  <a:pt x="19521" y="12874"/>
                </a:cubicBezTo>
                <a:cubicBezTo>
                  <a:pt x="19529" y="12874"/>
                  <a:pt x="19538" y="12874"/>
                  <a:pt x="19546" y="12874"/>
                </a:cubicBezTo>
                <a:cubicBezTo>
                  <a:pt x="19583" y="12855"/>
                  <a:pt x="19689" y="12729"/>
                  <a:pt x="19745" y="12750"/>
                </a:cubicBezTo>
                <a:cubicBezTo>
                  <a:pt x="19856" y="12792"/>
                  <a:pt x="19939" y="12848"/>
                  <a:pt x="19993" y="127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373212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19050" y="10368"/>
                </a:moveTo>
                <a:cubicBezTo>
                  <a:pt x="19050" y="10484"/>
                  <a:pt x="19050" y="10600"/>
                  <a:pt x="19050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31000" y="4473720"/>
            <a:ext cx="187200" cy="22356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19025" y="12576"/>
                </a:moveTo>
                <a:cubicBezTo>
                  <a:pt x="18959" y="12620"/>
                  <a:pt x="19030" y="12548"/>
                  <a:pt x="19050" y="12526"/>
                </a:cubicBezTo>
                <a:cubicBezTo>
                  <a:pt x="19113" y="12463"/>
                  <a:pt x="19123" y="12446"/>
                  <a:pt x="19174" y="12427"/>
                </a:cubicBezTo>
                <a:cubicBezTo>
                  <a:pt x="19250" y="12452"/>
                  <a:pt x="19245" y="12572"/>
                  <a:pt x="19224" y="12650"/>
                </a:cubicBezTo>
                <a:cubicBezTo>
                  <a:pt x="19192" y="12771"/>
                  <a:pt x="19093" y="12962"/>
                  <a:pt x="19000" y="13047"/>
                </a:cubicBezTo>
                <a:cubicBezTo>
                  <a:pt x="18992" y="13047"/>
                  <a:pt x="18984" y="13047"/>
                  <a:pt x="18976" y="13047"/>
                </a:cubicBezTo>
                <a:cubicBezTo>
                  <a:pt x="19022" y="13031"/>
                  <a:pt x="19072" y="12962"/>
                  <a:pt x="19149" y="12948"/>
                </a:cubicBezTo>
                <a:cubicBezTo>
                  <a:pt x="19253" y="12929"/>
                  <a:pt x="19321" y="13014"/>
                  <a:pt x="19422" y="12998"/>
                </a:cubicBezTo>
                <a:cubicBezTo>
                  <a:pt x="19447" y="12990"/>
                  <a:pt x="19471" y="12981"/>
                  <a:pt x="19496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61080" y="4268880"/>
            <a:ext cx="1170000" cy="571320"/>
          </a:xfrm>
          <a:custGeom>
            <a:avLst/>
            <a:gdLst/>
            <a:ahLst/>
            <a:rect l="l" t="t" r="r" b="b"/>
            <a:pathLst>
              <a:path w="3251" h="1588">
                <a:moveTo>
                  <a:pt x="18827" y="13395"/>
                </a:moveTo>
                <a:cubicBezTo>
                  <a:pt x="19130" y="13425"/>
                  <a:pt x="19440" y="13433"/>
                  <a:pt x="19745" y="13419"/>
                </a:cubicBezTo>
                <a:cubicBezTo>
                  <a:pt x="20121" y="13402"/>
                  <a:pt x="20527" y="13334"/>
                  <a:pt x="20886" y="13221"/>
                </a:cubicBezTo>
                <a:cubicBezTo>
                  <a:pt x="21144" y="13140"/>
                  <a:pt x="21420" y="13001"/>
                  <a:pt x="21605" y="12799"/>
                </a:cubicBezTo>
                <a:cubicBezTo>
                  <a:pt x="21703" y="12692"/>
                  <a:pt x="21751" y="12544"/>
                  <a:pt x="21754" y="12402"/>
                </a:cubicBezTo>
                <a:cubicBezTo>
                  <a:pt x="21756" y="12322"/>
                  <a:pt x="21783" y="12198"/>
                  <a:pt x="21729" y="12129"/>
                </a:cubicBezTo>
                <a:cubicBezTo>
                  <a:pt x="21640" y="12016"/>
                  <a:pt x="21508" y="11955"/>
                  <a:pt x="21382" y="11906"/>
                </a:cubicBezTo>
                <a:cubicBezTo>
                  <a:pt x="21201" y="11836"/>
                  <a:pt x="20981" y="11838"/>
                  <a:pt x="20786" y="11857"/>
                </a:cubicBezTo>
                <a:cubicBezTo>
                  <a:pt x="20598" y="11875"/>
                  <a:pt x="20403" y="11908"/>
                  <a:pt x="20216" y="11931"/>
                </a:cubicBezTo>
                <a:cubicBezTo>
                  <a:pt x="19981" y="11960"/>
                  <a:pt x="19749" y="12030"/>
                  <a:pt x="19521" y="12080"/>
                </a:cubicBezTo>
                <a:cubicBezTo>
                  <a:pt x="19269" y="12135"/>
                  <a:pt x="18972" y="12203"/>
                  <a:pt x="18777" y="12378"/>
                </a:cubicBezTo>
                <a:cubicBezTo>
                  <a:pt x="18646" y="12496"/>
                  <a:pt x="18570" y="12685"/>
                  <a:pt x="18529" y="12849"/>
                </a:cubicBezTo>
                <a:cubicBezTo>
                  <a:pt x="18482" y="13037"/>
                  <a:pt x="18509" y="13199"/>
                  <a:pt x="18678" y="13295"/>
                </a:cubicBezTo>
                <a:cubicBezTo>
                  <a:pt x="18906" y="13424"/>
                  <a:pt x="19214" y="13461"/>
                  <a:pt x="19472" y="13444"/>
                </a:cubicBezTo>
                <a:cubicBezTo>
                  <a:pt x="19522" y="13436"/>
                  <a:pt x="19571" y="13427"/>
                  <a:pt x="19621" y="134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Homework: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W 19 eve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W 117 5,6, &amp; 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6107040" y="3268800"/>
            <a:ext cx="403200" cy="473040"/>
          </a:xfrm>
          <a:custGeom>
            <a:avLst/>
            <a:gdLst/>
            <a:ahLst/>
            <a:rect l="l" t="t" r="r" b="b"/>
            <a:pathLst>
              <a:path w="1118" h="1315">
                <a:moveTo>
                  <a:pt x="17214" y="9079"/>
                </a:moveTo>
                <a:cubicBezTo>
                  <a:pt x="17044" y="9406"/>
                  <a:pt x="16926" y="9720"/>
                  <a:pt x="16991" y="10096"/>
                </a:cubicBezTo>
                <a:cubicBezTo>
                  <a:pt x="17001" y="10152"/>
                  <a:pt x="17073" y="10414"/>
                  <a:pt x="17165" y="10368"/>
                </a:cubicBezTo>
              </a:path>
              <a:path w="1118" h="1315">
                <a:moveTo>
                  <a:pt x="18083" y="9426"/>
                </a:moveTo>
                <a:lnTo>
                  <a:pt x="18083" y="9426"/>
                </a:lnTo>
                <a:lnTo>
                  <a:pt x="18083" y="9426"/>
                </a:lnTo>
              </a:path>
              <a:path w="1118" h="1315">
                <a:moveTo>
                  <a:pt x="18083" y="9426"/>
                </a:moveTo>
                <a:lnTo>
                  <a:pt x="18083" y="942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3348000"/>
            <a:ext cx="768240" cy="420840"/>
          </a:xfrm>
          <a:custGeom>
            <a:avLst/>
            <a:gdLst/>
            <a:ahLst/>
            <a:rect l="l" t="t" r="r" b="b"/>
            <a:pathLst>
              <a:path w="2134" h="1167">
                <a:moveTo>
                  <a:pt x="17388" y="9947"/>
                </a:moveTo>
                <a:cubicBezTo>
                  <a:pt x="17425" y="10128"/>
                  <a:pt x="17454" y="10285"/>
                  <a:pt x="17462" y="10468"/>
                </a:cubicBezTo>
                <a:cubicBezTo>
                  <a:pt x="17404" y="10289"/>
                  <a:pt x="17350" y="10071"/>
                  <a:pt x="17363" y="9872"/>
                </a:cubicBezTo>
                <a:cubicBezTo>
                  <a:pt x="17407" y="9655"/>
                  <a:pt x="17399" y="9592"/>
                  <a:pt x="17537" y="9525"/>
                </a:cubicBezTo>
                <a:cubicBezTo>
                  <a:pt x="17649" y="9581"/>
                  <a:pt x="18084" y="9864"/>
                  <a:pt x="17760" y="10021"/>
                </a:cubicBezTo>
                <a:cubicBezTo>
                  <a:pt x="17654" y="10072"/>
                  <a:pt x="17506" y="9985"/>
                  <a:pt x="17413" y="9947"/>
                </a:cubicBezTo>
              </a:path>
              <a:path w="2134" h="1167">
                <a:moveTo>
                  <a:pt x="18083" y="9674"/>
                </a:moveTo>
                <a:cubicBezTo>
                  <a:pt x="18101" y="9751"/>
                  <a:pt x="18206" y="9997"/>
                  <a:pt x="18132" y="9971"/>
                </a:cubicBezTo>
              </a:path>
              <a:path w="2134" h="1167">
                <a:moveTo>
                  <a:pt x="18703" y="9649"/>
                </a:moveTo>
                <a:cubicBezTo>
                  <a:pt x="18756" y="9578"/>
                  <a:pt x="18688" y="9535"/>
                  <a:pt x="18604" y="9624"/>
                </a:cubicBezTo>
                <a:cubicBezTo>
                  <a:pt x="18485" y="9751"/>
                  <a:pt x="18432" y="10060"/>
                  <a:pt x="18703" y="10021"/>
                </a:cubicBezTo>
                <a:cubicBezTo>
                  <a:pt x="18884" y="9944"/>
                  <a:pt x="18946" y="9912"/>
                  <a:pt x="19000" y="9773"/>
                </a:cubicBezTo>
              </a:path>
              <a:path w="2134" h="1167">
                <a:moveTo>
                  <a:pt x="18901" y="9302"/>
                </a:moveTo>
                <a:cubicBezTo>
                  <a:pt x="18970" y="9521"/>
                  <a:pt x="18976" y="10189"/>
                  <a:pt x="19050" y="9971"/>
                </a:cubicBezTo>
                <a:cubicBezTo>
                  <a:pt x="19050" y="9946"/>
                  <a:pt x="19050" y="9922"/>
                  <a:pt x="19050" y="9897"/>
                </a:cubicBezTo>
              </a:path>
              <a:path w="2134" h="1167">
                <a:moveTo>
                  <a:pt x="19273" y="9401"/>
                </a:moveTo>
                <a:cubicBezTo>
                  <a:pt x="19212" y="9504"/>
                  <a:pt x="19204" y="9528"/>
                  <a:pt x="19149" y="9575"/>
                </a:cubicBezTo>
                <a:cubicBezTo>
                  <a:pt x="19166" y="9623"/>
                  <a:pt x="19343" y="9655"/>
                  <a:pt x="19397" y="9723"/>
                </a:cubicBezTo>
                <a:cubicBezTo>
                  <a:pt x="19432" y="9768"/>
                  <a:pt x="19496" y="10097"/>
                  <a:pt x="19496" y="99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04040" y="3098880"/>
            <a:ext cx="312840" cy="571320"/>
          </a:xfrm>
          <a:custGeom>
            <a:avLst/>
            <a:gdLst/>
            <a:ahLst/>
            <a:rect l="l" t="t" r="r" b="b"/>
            <a:pathLst>
              <a:path w="869" h="1589">
                <a:moveTo>
                  <a:pt x="20687" y="9079"/>
                </a:moveTo>
                <a:cubicBezTo>
                  <a:pt x="20633" y="9105"/>
                  <a:pt x="20535" y="9074"/>
                  <a:pt x="20489" y="9103"/>
                </a:cubicBezTo>
                <a:cubicBezTo>
                  <a:pt x="20373" y="9176"/>
                  <a:pt x="20333" y="9355"/>
                  <a:pt x="20290" y="9475"/>
                </a:cubicBezTo>
                <a:cubicBezTo>
                  <a:pt x="20375" y="9458"/>
                  <a:pt x="20526" y="9331"/>
                  <a:pt x="20613" y="9376"/>
                </a:cubicBezTo>
                <a:cubicBezTo>
                  <a:pt x="20789" y="9466"/>
                  <a:pt x="20869" y="9776"/>
                  <a:pt x="20737" y="9922"/>
                </a:cubicBezTo>
                <a:cubicBezTo>
                  <a:pt x="20619" y="10052"/>
                  <a:pt x="20415" y="9920"/>
                  <a:pt x="20315" y="9847"/>
                </a:cubicBezTo>
              </a:path>
              <a:path w="869" h="1589">
                <a:moveTo>
                  <a:pt x="20762" y="8607"/>
                </a:moveTo>
                <a:cubicBezTo>
                  <a:pt x="21082" y="8821"/>
                  <a:pt x="21180" y="9075"/>
                  <a:pt x="21158" y="9475"/>
                </a:cubicBezTo>
                <a:cubicBezTo>
                  <a:pt x="21143" y="9751"/>
                  <a:pt x="21019" y="10033"/>
                  <a:pt x="20786" y="10195"/>
                </a:cubicBezTo>
                <a:cubicBezTo>
                  <a:pt x="20778" y="10195"/>
                  <a:pt x="20770" y="10195"/>
                  <a:pt x="20762" y="1019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Course 2 Nov.17, 2011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:  Students will Multiply Decim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Multiply Decimals</a:t>
            </a:r>
            <a:endParaRPr b="0" lang="en-US" sz="2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You will need to multiply decimals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purchasing more than one on an item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3 lbs of peach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tax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6% of the cost of the it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the amount of a discoun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20% off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o find percent of a numb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80% of students prefer pizza over meatloaf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accurately multiply decimal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.  Place the decimal in your answer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Verdana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29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0185</a:t>
            </a: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pl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amples:  Let’s work on placing the decimal point correctly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78.26 x 12 = 939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3.9612 x 2.3 = 91107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8.93013 x 0.82341 = 735315834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1062000"/>
            <a:ext cx="1589040" cy="1886040"/>
          </a:xfrm>
          <a:custGeom>
            <a:avLst/>
            <a:gdLst/>
            <a:ahLst/>
            <a:rect l="l" t="t" r="r" b="b"/>
            <a:pathLst>
              <a:path w="4416" h="5235">
                <a:moveTo>
                  <a:pt x="18455" y="3746"/>
                </a:moveTo>
                <a:cubicBezTo>
                  <a:pt x="18582" y="3746"/>
                  <a:pt x="18702" y="3710"/>
                  <a:pt x="18827" y="3696"/>
                </a:cubicBezTo>
                <a:cubicBezTo>
                  <a:pt x="18852" y="3696"/>
                  <a:pt x="18876" y="3696"/>
                  <a:pt x="18901" y="3696"/>
                </a:cubicBezTo>
                <a:cubicBezTo>
                  <a:pt x="18914" y="3842"/>
                  <a:pt x="18828" y="3971"/>
                  <a:pt x="18777" y="4118"/>
                </a:cubicBezTo>
                <a:cubicBezTo>
                  <a:pt x="18777" y="4126"/>
                  <a:pt x="18777" y="4134"/>
                  <a:pt x="18777" y="4142"/>
                </a:cubicBezTo>
              </a:path>
              <a:path w="4416" h="5235">
                <a:moveTo>
                  <a:pt x="19323" y="3621"/>
                </a:moveTo>
                <a:cubicBezTo>
                  <a:pt x="19271" y="3658"/>
                  <a:pt x="19241" y="3679"/>
                  <a:pt x="19199" y="3721"/>
                </a:cubicBezTo>
                <a:cubicBezTo>
                  <a:pt x="19298" y="3820"/>
                  <a:pt x="19457" y="3914"/>
                  <a:pt x="19397" y="4068"/>
                </a:cubicBezTo>
                <a:cubicBezTo>
                  <a:pt x="19355" y="4131"/>
                  <a:pt x="19352" y="4156"/>
                  <a:pt x="19298" y="4142"/>
                </a:cubicBezTo>
                <a:cubicBezTo>
                  <a:pt x="19269" y="3998"/>
                  <a:pt x="19352" y="3951"/>
                  <a:pt x="19397" y="3820"/>
                </a:cubicBezTo>
                <a:cubicBezTo>
                  <a:pt x="19415" y="3767"/>
                  <a:pt x="19409" y="3714"/>
                  <a:pt x="19397" y="3696"/>
                </a:cubicBezTo>
              </a:path>
              <a:path w="4416" h="5235">
                <a:moveTo>
                  <a:pt x="20017" y="3671"/>
                </a:moveTo>
                <a:cubicBezTo>
                  <a:pt x="20152" y="3644"/>
                  <a:pt x="20389" y="3626"/>
                  <a:pt x="20389" y="3845"/>
                </a:cubicBezTo>
                <a:cubicBezTo>
                  <a:pt x="20389" y="3981"/>
                  <a:pt x="20222" y="4016"/>
                  <a:pt x="20141" y="3994"/>
                </a:cubicBezTo>
                <a:cubicBezTo>
                  <a:pt x="20141" y="3896"/>
                  <a:pt x="20217" y="3925"/>
                  <a:pt x="20290" y="3944"/>
                </a:cubicBezTo>
                <a:cubicBezTo>
                  <a:pt x="20353" y="3960"/>
                  <a:pt x="20406" y="3990"/>
                  <a:pt x="20464" y="4018"/>
                </a:cubicBezTo>
              </a:path>
              <a:path w="4416" h="5235">
                <a:moveTo>
                  <a:pt x="20737" y="3547"/>
                </a:moveTo>
                <a:cubicBezTo>
                  <a:pt x="20737" y="3641"/>
                  <a:pt x="20715" y="3697"/>
                  <a:pt x="20737" y="3795"/>
                </a:cubicBezTo>
                <a:cubicBezTo>
                  <a:pt x="20767" y="3929"/>
                  <a:pt x="20898" y="4003"/>
                  <a:pt x="21034" y="3969"/>
                </a:cubicBezTo>
                <a:cubicBezTo>
                  <a:pt x="21142" y="3942"/>
                  <a:pt x="21179" y="3882"/>
                  <a:pt x="21208" y="3795"/>
                </a:cubicBezTo>
                <a:cubicBezTo>
                  <a:pt x="21157" y="3821"/>
                  <a:pt x="21084" y="3881"/>
                  <a:pt x="21059" y="3944"/>
                </a:cubicBezTo>
                <a:cubicBezTo>
                  <a:pt x="21059" y="3952"/>
                  <a:pt x="21059" y="3961"/>
                  <a:pt x="21059" y="3969"/>
                </a:cubicBezTo>
              </a:path>
              <a:path w="4416" h="5235">
                <a:moveTo>
                  <a:pt x="18008" y="4440"/>
                </a:moveTo>
                <a:cubicBezTo>
                  <a:pt x="18073" y="4517"/>
                  <a:pt x="18133" y="4600"/>
                  <a:pt x="18182" y="4688"/>
                </a:cubicBezTo>
                <a:cubicBezTo>
                  <a:pt x="18190" y="4705"/>
                  <a:pt x="18199" y="4721"/>
                  <a:pt x="18207" y="4738"/>
                </a:cubicBezTo>
              </a:path>
              <a:path w="4416" h="5235">
                <a:moveTo>
                  <a:pt x="18256" y="4415"/>
                </a:moveTo>
                <a:cubicBezTo>
                  <a:pt x="18232" y="4547"/>
                  <a:pt x="18184" y="4674"/>
                  <a:pt x="18107" y="4787"/>
                </a:cubicBezTo>
                <a:cubicBezTo>
                  <a:pt x="18083" y="4812"/>
                  <a:pt x="18075" y="4820"/>
                  <a:pt x="18107" y="4837"/>
                </a:cubicBezTo>
              </a:path>
              <a:path w="4416" h="5235">
                <a:moveTo>
                  <a:pt x="20439" y="4366"/>
                </a:moveTo>
                <a:cubicBezTo>
                  <a:pt x="20439" y="4461"/>
                  <a:pt x="20451" y="4545"/>
                  <a:pt x="20464" y="4638"/>
                </a:cubicBezTo>
                <a:cubicBezTo>
                  <a:pt x="20464" y="4646"/>
                  <a:pt x="20464" y="4655"/>
                  <a:pt x="20464" y="4663"/>
                </a:cubicBezTo>
              </a:path>
              <a:path w="4416" h="5235">
                <a:moveTo>
                  <a:pt x="20886" y="4341"/>
                </a:moveTo>
                <a:cubicBezTo>
                  <a:pt x="20929" y="4326"/>
                  <a:pt x="20923" y="4297"/>
                  <a:pt x="20985" y="4266"/>
                </a:cubicBezTo>
                <a:cubicBezTo>
                  <a:pt x="21045" y="4236"/>
                  <a:pt x="21095" y="4242"/>
                  <a:pt x="21158" y="4242"/>
                </a:cubicBezTo>
                <a:cubicBezTo>
                  <a:pt x="21207" y="4386"/>
                  <a:pt x="21120" y="4465"/>
                  <a:pt x="21034" y="4589"/>
                </a:cubicBezTo>
                <a:cubicBezTo>
                  <a:pt x="20974" y="4670"/>
                  <a:pt x="20959" y="4683"/>
                  <a:pt x="20935" y="4738"/>
                </a:cubicBezTo>
                <a:cubicBezTo>
                  <a:pt x="20961" y="4812"/>
                  <a:pt x="21048" y="4700"/>
                  <a:pt x="21109" y="4688"/>
                </a:cubicBezTo>
                <a:cubicBezTo>
                  <a:pt x="21198" y="4670"/>
                  <a:pt x="21275" y="4705"/>
                  <a:pt x="21357" y="4713"/>
                </a:cubicBezTo>
              </a:path>
              <a:path w="4416" h="5235">
                <a:moveTo>
                  <a:pt x="18529" y="5259"/>
                </a:moveTo>
                <a:cubicBezTo>
                  <a:pt x="18744" y="5181"/>
                  <a:pt x="18997" y="5132"/>
                  <a:pt x="19224" y="5110"/>
                </a:cubicBezTo>
                <a:cubicBezTo>
                  <a:pt x="19866" y="5048"/>
                  <a:pt x="20515" y="5063"/>
                  <a:pt x="21158" y="5035"/>
                </a:cubicBezTo>
                <a:cubicBezTo>
                  <a:pt x="21350" y="5027"/>
                  <a:pt x="21537" y="5011"/>
                  <a:pt x="21729" y="5011"/>
                </a:cubicBezTo>
              </a:path>
              <a:path w="4416" h="5235">
                <a:moveTo>
                  <a:pt x="21233" y="5581"/>
                </a:moveTo>
                <a:cubicBezTo>
                  <a:pt x="21252" y="5524"/>
                  <a:pt x="21386" y="5507"/>
                  <a:pt x="21456" y="5482"/>
                </a:cubicBezTo>
                <a:cubicBezTo>
                  <a:pt x="21421" y="5693"/>
                  <a:pt x="21324" y="5832"/>
                  <a:pt x="21158" y="5978"/>
                </a:cubicBezTo>
                <a:cubicBezTo>
                  <a:pt x="21102" y="6016"/>
                  <a:pt x="21077" y="6011"/>
                  <a:pt x="21084" y="6052"/>
                </a:cubicBezTo>
                <a:cubicBezTo>
                  <a:pt x="21207" y="6032"/>
                  <a:pt x="21329" y="5989"/>
                  <a:pt x="21456" y="5978"/>
                </a:cubicBezTo>
                <a:cubicBezTo>
                  <a:pt x="21547" y="5978"/>
                  <a:pt x="21555" y="5978"/>
                  <a:pt x="21605" y="5978"/>
                </a:cubicBezTo>
              </a:path>
              <a:path w="4416" h="5235">
                <a:moveTo>
                  <a:pt x="20042" y="3225"/>
                </a:moveTo>
                <a:cubicBezTo>
                  <a:pt x="20042" y="3324"/>
                  <a:pt x="20042" y="3423"/>
                  <a:pt x="20042" y="3522"/>
                </a:cubicBezTo>
              </a:path>
              <a:path w="4416" h="5235">
                <a:moveTo>
                  <a:pt x="20687" y="5482"/>
                </a:moveTo>
                <a:cubicBezTo>
                  <a:pt x="20606" y="5482"/>
                  <a:pt x="20482" y="5454"/>
                  <a:pt x="20414" y="5507"/>
                </a:cubicBezTo>
                <a:cubicBezTo>
                  <a:pt x="20372" y="5540"/>
                  <a:pt x="20373" y="5675"/>
                  <a:pt x="20365" y="5730"/>
                </a:cubicBezTo>
                <a:cubicBezTo>
                  <a:pt x="20365" y="5746"/>
                  <a:pt x="20365" y="5763"/>
                  <a:pt x="20365" y="5779"/>
                </a:cubicBezTo>
                <a:cubicBezTo>
                  <a:pt x="20442" y="5728"/>
                  <a:pt x="20569" y="5670"/>
                  <a:pt x="20662" y="5730"/>
                </a:cubicBezTo>
                <a:cubicBezTo>
                  <a:pt x="20783" y="5808"/>
                  <a:pt x="20707" y="6005"/>
                  <a:pt x="20588" y="6028"/>
                </a:cubicBezTo>
                <a:cubicBezTo>
                  <a:pt x="20506" y="6044"/>
                  <a:pt x="20400" y="6028"/>
                  <a:pt x="20315" y="6028"/>
                </a:cubicBezTo>
              </a:path>
              <a:path w="4416" h="5235">
                <a:moveTo>
                  <a:pt x="19546" y="5482"/>
                </a:moveTo>
                <a:cubicBezTo>
                  <a:pt x="19589" y="5482"/>
                  <a:pt x="19584" y="5492"/>
                  <a:pt x="19596" y="5457"/>
                </a:cubicBezTo>
                <a:cubicBezTo>
                  <a:pt x="19576" y="5558"/>
                  <a:pt x="19508" y="5656"/>
                  <a:pt x="19472" y="5755"/>
                </a:cubicBezTo>
                <a:cubicBezTo>
                  <a:pt x="19426" y="5881"/>
                  <a:pt x="19334" y="6013"/>
                  <a:pt x="19496" y="6077"/>
                </a:cubicBezTo>
                <a:cubicBezTo>
                  <a:pt x="19637" y="6133"/>
                  <a:pt x="19776" y="6062"/>
                  <a:pt x="19869" y="5953"/>
                </a:cubicBezTo>
                <a:cubicBezTo>
                  <a:pt x="19877" y="5937"/>
                  <a:pt x="19885" y="5920"/>
                  <a:pt x="19893" y="5904"/>
                </a:cubicBezTo>
                <a:cubicBezTo>
                  <a:pt x="19799" y="5856"/>
                  <a:pt x="19722" y="5888"/>
                  <a:pt x="19695" y="6003"/>
                </a:cubicBezTo>
                <a:cubicBezTo>
                  <a:pt x="19695" y="6028"/>
                  <a:pt x="19695" y="6052"/>
                  <a:pt x="19695" y="6077"/>
                </a:cubicBezTo>
              </a:path>
              <a:path w="4416" h="5235">
                <a:moveTo>
                  <a:pt x="18207" y="2977"/>
                </a:moveTo>
                <a:cubicBezTo>
                  <a:pt x="18207" y="2902"/>
                  <a:pt x="18226" y="3075"/>
                  <a:pt x="18231" y="3150"/>
                </a:cubicBezTo>
                <a:cubicBezTo>
                  <a:pt x="18237" y="3247"/>
                  <a:pt x="18240" y="3270"/>
                  <a:pt x="18256" y="3349"/>
                </a:cubicBezTo>
              </a:path>
              <a:path w="4416" h="5235">
                <a:moveTo>
                  <a:pt x="18182" y="5655"/>
                </a:moveTo>
                <a:cubicBezTo>
                  <a:pt x="18254" y="5609"/>
                  <a:pt x="18243" y="5957"/>
                  <a:pt x="18256" y="6028"/>
                </a:cubicBezTo>
                <a:cubicBezTo>
                  <a:pt x="18264" y="6061"/>
                  <a:pt x="18273" y="6094"/>
                  <a:pt x="18281" y="6127"/>
                </a:cubicBezTo>
              </a:path>
              <a:path w="4416" h="5235">
                <a:moveTo>
                  <a:pt x="18852" y="5482"/>
                </a:moveTo>
                <a:cubicBezTo>
                  <a:pt x="18834" y="5427"/>
                  <a:pt x="18787" y="5477"/>
                  <a:pt x="18728" y="5482"/>
                </a:cubicBezTo>
                <a:cubicBezTo>
                  <a:pt x="18645" y="5490"/>
                  <a:pt x="18645" y="5449"/>
                  <a:pt x="18628" y="5581"/>
                </a:cubicBezTo>
                <a:cubicBezTo>
                  <a:pt x="18621" y="5635"/>
                  <a:pt x="18628" y="5699"/>
                  <a:pt x="18628" y="5755"/>
                </a:cubicBezTo>
                <a:cubicBezTo>
                  <a:pt x="18720" y="5724"/>
                  <a:pt x="18795" y="5619"/>
                  <a:pt x="18901" y="5680"/>
                </a:cubicBezTo>
                <a:cubicBezTo>
                  <a:pt x="18991" y="5732"/>
                  <a:pt x="19053" y="5905"/>
                  <a:pt x="18951" y="5978"/>
                </a:cubicBezTo>
                <a:cubicBezTo>
                  <a:pt x="18858" y="6044"/>
                  <a:pt x="18821" y="6034"/>
                  <a:pt x="18728" y="6003"/>
                </a:cubicBezTo>
              </a:path>
              <a:path w="4416" h="5235">
                <a:moveTo>
                  <a:pt x="21382" y="6300"/>
                </a:moveTo>
                <a:cubicBezTo>
                  <a:pt x="21431" y="6325"/>
                  <a:pt x="21327" y="6374"/>
                  <a:pt x="21307" y="6424"/>
                </a:cubicBezTo>
                <a:cubicBezTo>
                  <a:pt x="21287" y="6523"/>
                  <a:pt x="21279" y="6539"/>
                  <a:pt x="21282" y="6598"/>
                </a:cubicBezTo>
                <a:cubicBezTo>
                  <a:pt x="21452" y="6660"/>
                  <a:pt x="21581" y="6644"/>
                  <a:pt x="21729" y="6524"/>
                </a:cubicBezTo>
                <a:cubicBezTo>
                  <a:pt x="21857" y="6421"/>
                  <a:pt x="21659" y="6316"/>
                  <a:pt x="21605" y="6276"/>
                </a:cubicBezTo>
                <a:cubicBezTo>
                  <a:pt x="21570" y="6241"/>
                  <a:pt x="21548" y="6237"/>
                  <a:pt x="21506" y="6276"/>
                </a:cubicBezTo>
              </a:path>
              <a:path w="4416" h="5235">
                <a:moveTo>
                  <a:pt x="20712" y="6276"/>
                </a:moveTo>
                <a:cubicBezTo>
                  <a:pt x="20694" y="6347"/>
                  <a:pt x="20642" y="6426"/>
                  <a:pt x="20613" y="6499"/>
                </a:cubicBezTo>
                <a:cubicBezTo>
                  <a:pt x="20591" y="6564"/>
                  <a:pt x="20583" y="6579"/>
                  <a:pt x="20588" y="6623"/>
                </a:cubicBezTo>
                <a:cubicBezTo>
                  <a:pt x="20669" y="6691"/>
                  <a:pt x="20783" y="6700"/>
                  <a:pt x="20886" y="6623"/>
                </a:cubicBezTo>
                <a:cubicBezTo>
                  <a:pt x="20897" y="6614"/>
                  <a:pt x="21013" y="6491"/>
                  <a:pt x="20960" y="6449"/>
                </a:cubicBezTo>
                <a:cubicBezTo>
                  <a:pt x="20952" y="6449"/>
                  <a:pt x="20943" y="6449"/>
                  <a:pt x="20935" y="6449"/>
                </a:cubicBezTo>
                <a:cubicBezTo>
                  <a:pt x="20825" y="6449"/>
                  <a:pt x="20712" y="6519"/>
                  <a:pt x="20712" y="6672"/>
                </a:cubicBezTo>
                <a:cubicBezTo>
                  <a:pt x="20720" y="6672"/>
                  <a:pt x="20729" y="6672"/>
                  <a:pt x="20737" y="6672"/>
                </a:cubicBezTo>
              </a:path>
              <a:path w="4416" h="5235">
                <a:moveTo>
                  <a:pt x="19670" y="6449"/>
                </a:moveTo>
                <a:cubicBezTo>
                  <a:pt x="19697" y="6370"/>
                  <a:pt x="19793" y="6366"/>
                  <a:pt x="19893" y="6350"/>
                </a:cubicBezTo>
                <a:cubicBezTo>
                  <a:pt x="19948" y="6471"/>
                  <a:pt x="20013" y="6606"/>
                  <a:pt x="19893" y="6722"/>
                </a:cubicBezTo>
                <a:cubicBezTo>
                  <a:pt x="19810" y="6802"/>
                  <a:pt x="19716" y="6786"/>
                  <a:pt x="19621" y="6772"/>
                </a:cubicBezTo>
                <a:cubicBezTo>
                  <a:pt x="19578" y="6729"/>
                  <a:pt x="19649" y="6649"/>
                  <a:pt x="19720" y="6623"/>
                </a:cubicBezTo>
                <a:cubicBezTo>
                  <a:pt x="19883" y="6563"/>
                  <a:pt x="19898" y="6670"/>
                  <a:pt x="20017" y="6697"/>
                </a:cubicBezTo>
                <a:cubicBezTo>
                  <a:pt x="20025" y="6697"/>
                  <a:pt x="20034" y="6697"/>
                  <a:pt x="20042" y="6697"/>
                </a:cubicBezTo>
              </a:path>
              <a:path w="4416" h="5235">
                <a:moveTo>
                  <a:pt x="19149" y="6449"/>
                </a:moveTo>
                <a:cubicBezTo>
                  <a:pt x="19141" y="6401"/>
                  <a:pt x="19117" y="6366"/>
                  <a:pt x="19050" y="6350"/>
                </a:cubicBezTo>
                <a:cubicBezTo>
                  <a:pt x="19013" y="6341"/>
                  <a:pt x="18912" y="6396"/>
                  <a:pt x="18926" y="6449"/>
                </a:cubicBezTo>
                <a:cubicBezTo>
                  <a:pt x="18952" y="6544"/>
                  <a:pt x="19132" y="6600"/>
                  <a:pt x="19199" y="6672"/>
                </a:cubicBezTo>
                <a:cubicBezTo>
                  <a:pt x="19256" y="6732"/>
                  <a:pt x="19214" y="6821"/>
                  <a:pt x="19124" y="6821"/>
                </a:cubicBezTo>
                <a:cubicBezTo>
                  <a:pt x="19099" y="6813"/>
                  <a:pt x="19075" y="6804"/>
                  <a:pt x="19050" y="6796"/>
                </a:cubicBezTo>
                <a:cubicBezTo>
                  <a:pt x="19050" y="6660"/>
                  <a:pt x="19080" y="6594"/>
                  <a:pt x="19124" y="6474"/>
                </a:cubicBezTo>
                <a:cubicBezTo>
                  <a:pt x="19153" y="6394"/>
                  <a:pt x="19197" y="6339"/>
                  <a:pt x="19124" y="6375"/>
                </a:cubicBezTo>
              </a:path>
              <a:path w="4416" h="5235">
                <a:moveTo>
                  <a:pt x="18231" y="6524"/>
                </a:moveTo>
                <a:cubicBezTo>
                  <a:pt x="18303" y="6506"/>
                  <a:pt x="18380" y="6451"/>
                  <a:pt x="18455" y="6424"/>
                </a:cubicBezTo>
                <a:cubicBezTo>
                  <a:pt x="18517" y="6402"/>
                  <a:pt x="18547" y="6436"/>
                  <a:pt x="18554" y="6499"/>
                </a:cubicBezTo>
                <a:cubicBezTo>
                  <a:pt x="18565" y="6595"/>
                  <a:pt x="18554" y="6699"/>
                  <a:pt x="18554" y="6796"/>
                </a:cubicBezTo>
              </a:path>
              <a:path w="4416" h="5235">
                <a:moveTo>
                  <a:pt x="18058" y="7069"/>
                </a:moveTo>
                <a:cubicBezTo>
                  <a:pt x="18342" y="7026"/>
                  <a:pt x="18614" y="6998"/>
                  <a:pt x="18901" y="6995"/>
                </a:cubicBezTo>
                <a:cubicBezTo>
                  <a:pt x="19332" y="6991"/>
                  <a:pt x="19760" y="6970"/>
                  <a:pt x="20191" y="6970"/>
                </a:cubicBezTo>
                <a:cubicBezTo>
                  <a:pt x="20540" y="6970"/>
                  <a:pt x="20885" y="6935"/>
                  <a:pt x="21233" y="6921"/>
                </a:cubicBezTo>
                <a:cubicBezTo>
                  <a:pt x="21490" y="6911"/>
                  <a:pt x="21780" y="6890"/>
                  <a:pt x="22027" y="6945"/>
                </a:cubicBezTo>
              </a:path>
              <a:path w="4416" h="5235">
                <a:moveTo>
                  <a:pt x="21580" y="7342"/>
                </a:moveTo>
                <a:cubicBezTo>
                  <a:pt x="21601" y="7240"/>
                  <a:pt x="21659" y="7247"/>
                  <a:pt x="21754" y="7243"/>
                </a:cubicBezTo>
                <a:cubicBezTo>
                  <a:pt x="21770" y="7243"/>
                  <a:pt x="21787" y="7243"/>
                  <a:pt x="21803" y="7243"/>
                </a:cubicBezTo>
                <a:cubicBezTo>
                  <a:pt x="21777" y="7377"/>
                  <a:pt x="21697" y="7485"/>
                  <a:pt x="21605" y="7590"/>
                </a:cubicBezTo>
                <a:cubicBezTo>
                  <a:pt x="21542" y="7653"/>
                  <a:pt x="21525" y="7662"/>
                  <a:pt x="21506" y="7714"/>
                </a:cubicBezTo>
                <a:cubicBezTo>
                  <a:pt x="21597" y="7684"/>
                  <a:pt x="21679" y="7612"/>
                  <a:pt x="21779" y="7590"/>
                </a:cubicBezTo>
                <a:cubicBezTo>
                  <a:pt x="21860" y="7572"/>
                  <a:pt x="21947" y="7610"/>
                  <a:pt x="22027" y="7615"/>
                </a:cubicBezTo>
                <a:cubicBezTo>
                  <a:pt x="22035" y="7615"/>
                  <a:pt x="22043" y="7615"/>
                  <a:pt x="22051" y="7615"/>
                </a:cubicBezTo>
              </a:path>
              <a:path w="4416" h="5235">
                <a:moveTo>
                  <a:pt x="21059" y="7293"/>
                </a:moveTo>
                <a:cubicBezTo>
                  <a:pt x="21075" y="7422"/>
                  <a:pt x="21061" y="7563"/>
                  <a:pt x="21084" y="7689"/>
                </a:cubicBezTo>
                <a:cubicBezTo>
                  <a:pt x="21106" y="7733"/>
                  <a:pt x="21119" y="7754"/>
                  <a:pt x="21084" y="7714"/>
                </a:cubicBezTo>
              </a:path>
              <a:path w="4416" h="5235">
                <a:moveTo>
                  <a:pt x="19496" y="5085"/>
                </a:moveTo>
                <a:cubicBezTo>
                  <a:pt x="19496" y="5052"/>
                  <a:pt x="19496" y="5019"/>
                  <a:pt x="19496" y="4986"/>
                </a:cubicBezTo>
                <a:cubicBezTo>
                  <a:pt x="19496" y="5054"/>
                  <a:pt x="19516" y="5116"/>
                  <a:pt x="19521" y="5184"/>
                </a:cubicBezTo>
                <a:cubicBezTo>
                  <a:pt x="19521" y="5209"/>
                  <a:pt x="19521" y="5217"/>
                  <a:pt x="19521" y="5234"/>
                </a:cubicBezTo>
              </a:path>
              <a:path w="4416" h="5235">
                <a:moveTo>
                  <a:pt x="20365" y="7342"/>
                </a:moveTo>
                <a:cubicBezTo>
                  <a:pt x="20365" y="7359"/>
                  <a:pt x="20365" y="7375"/>
                  <a:pt x="20365" y="7392"/>
                </a:cubicBezTo>
                <a:cubicBezTo>
                  <a:pt x="20351" y="7334"/>
                  <a:pt x="20298" y="7315"/>
                  <a:pt x="20241" y="7293"/>
                </a:cubicBezTo>
                <a:cubicBezTo>
                  <a:pt x="20170" y="7266"/>
                  <a:pt x="20010" y="7317"/>
                  <a:pt x="19968" y="7392"/>
                </a:cubicBezTo>
                <a:cubicBezTo>
                  <a:pt x="19947" y="7476"/>
                  <a:pt x="19932" y="7495"/>
                  <a:pt x="19968" y="7541"/>
                </a:cubicBezTo>
                <a:cubicBezTo>
                  <a:pt x="20058" y="7590"/>
                  <a:pt x="20155" y="7571"/>
                  <a:pt x="20265" y="7516"/>
                </a:cubicBezTo>
                <a:cubicBezTo>
                  <a:pt x="20295" y="7486"/>
                  <a:pt x="20306" y="7472"/>
                  <a:pt x="20315" y="7441"/>
                </a:cubicBezTo>
                <a:cubicBezTo>
                  <a:pt x="20359" y="7543"/>
                  <a:pt x="20377" y="7718"/>
                  <a:pt x="20389" y="7838"/>
                </a:cubicBezTo>
                <a:cubicBezTo>
                  <a:pt x="20396" y="7911"/>
                  <a:pt x="20449" y="7992"/>
                  <a:pt x="20389" y="7913"/>
                </a:cubicBezTo>
              </a:path>
              <a:path w="4416" h="5235">
                <a:moveTo>
                  <a:pt x="19273" y="7491"/>
                </a:moveTo>
                <a:cubicBezTo>
                  <a:pt x="19228" y="7469"/>
                  <a:pt x="19377" y="7388"/>
                  <a:pt x="19422" y="7367"/>
                </a:cubicBezTo>
                <a:cubicBezTo>
                  <a:pt x="19430" y="7367"/>
                  <a:pt x="19439" y="7367"/>
                  <a:pt x="19447" y="7367"/>
                </a:cubicBezTo>
                <a:cubicBezTo>
                  <a:pt x="19488" y="7440"/>
                  <a:pt x="19520" y="7481"/>
                  <a:pt x="19472" y="7565"/>
                </a:cubicBezTo>
                <a:cubicBezTo>
                  <a:pt x="19452" y="7600"/>
                  <a:pt x="19404" y="7596"/>
                  <a:pt x="19372" y="7615"/>
                </a:cubicBezTo>
                <a:cubicBezTo>
                  <a:pt x="19434" y="7615"/>
                  <a:pt x="19519" y="7598"/>
                  <a:pt x="19571" y="7640"/>
                </a:cubicBezTo>
                <a:cubicBezTo>
                  <a:pt x="19700" y="7745"/>
                  <a:pt x="19618" y="7856"/>
                  <a:pt x="19521" y="7938"/>
                </a:cubicBezTo>
                <a:cubicBezTo>
                  <a:pt x="19429" y="8016"/>
                  <a:pt x="19341" y="7988"/>
                  <a:pt x="19248" y="7962"/>
                </a:cubicBezTo>
                <a:cubicBezTo>
                  <a:pt x="19240" y="7962"/>
                  <a:pt x="19232" y="7962"/>
                  <a:pt x="19224" y="7962"/>
                </a:cubicBezTo>
              </a:path>
              <a:path w="4416" h="5235">
                <a:moveTo>
                  <a:pt x="18033" y="5085"/>
                </a:moveTo>
                <a:cubicBezTo>
                  <a:pt x="18076" y="5185"/>
                  <a:pt x="18083" y="5299"/>
                  <a:pt x="18107" y="5407"/>
                </a:cubicBezTo>
              </a:path>
              <a:path w="4416" h="5235">
                <a:moveTo>
                  <a:pt x="18529" y="7392"/>
                </a:moveTo>
                <a:cubicBezTo>
                  <a:pt x="18567" y="7379"/>
                  <a:pt x="18554" y="7362"/>
                  <a:pt x="18554" y="7317"/>
                </a:cubicBezTo>
                <a:cubicBezTo>
                  <a:pt x="18511" y="7255"/>
                  <a:pt x="18402" y="7294"/>
                  <a:pt x="18355" y="7367"/>
                </a:cubicBezTo>
                <a:cubicBezTo>
                  <a:pt x="18288" y="7471"/>
                  <a:pt x="18300" y="7537"/>
                  <a:pt x="18331" y="7640"/>
                </a:cubicBezTo>
                <a:cubicBezTo>
                  <a:pt x="18437" y="7607"/>
                  <a:pt x="18552" y="7600"/>
                  <a:pt x="18604" y="7491"/>
                </a:cubicBezTo>
                <a:cubicBezTo>
                  <a:pt x="18635" y="7426"/>
                  <a:pt x="18610" y="7330"/>
                  <a:pt x="18628" y="7417"/>
                </a:cubicBezTo>
                <a:cubicBezTo>
                  <a:pt x="18663" y="7590"/>
                  <a:pt x="18694" y="7761"/>
                  <a:pt x="18703" y="7938"/>
                </a:cubicBezTo>
                <a:cubicBezTo>
                  <a:pt x="18703" y="7962"/>
                  <a:pt x="18703" y="7971"/>
                  <a:pt x="18703" y="7987"/>
                </a:cubicBezTo>
              </a:path>
              <a:path w="4416" h="5235">
                <a:moveTo>
                  <a:pt x="22349" y="7689"/>
                </a:moveTo>
                <a:cubicBezTo>
                  <a:pt x="22308" y="7669"/>
                  <a:pt x="22368" y="7667"/>
                  <a:pt x="22299" y="7689"/>
                </a:cubicBezTo>
                <a:cubicBezTo>
                  <a:pt x="22339" y="7680"/>
                  <a:pt x="22333" y="7645"/>
                  <a:pt x="22374" y="7640"/>
                </a:cubicBezTo>
                <a:cubicBezTo>
                  <a:pt x="22432" y="7633"/>
                  <a:pt x="22427" y="7803"/>
                  <a:pt x="22423" y="7838"/>
                </a:cubicBezTo>
                <a:cubicBezTo>
                  <a:pt x="22407" y="7984"/>
                  <a:pt x="22303" y="8099"/>
                  <a:pt x="22151" y="8086"/>
                </a:cubicBezTo>
                <a:cubicBezTo>
                  <a:pt x="22035" y="8076"/>
                  <a:pt x="21833" y="8042"/>
                  <a:pt x="21729" y="7987"/>
                </a:cubicBezTo>
                <a:cubicBezTo>
                  <a:pt x="21679" y="7961"/>
                  <a:pt x="21610" y="7891"/>
                  <a:pt x="21580" y="7863"/>
                </a:cubicBezTo>
                <a:cubicBezTo>
                  <a:pt x="21555" y="7863"/>
                  <a:pt x="21547" y="7863"/>
                  <a:pt x="21555" y="7838"/>
                </a:cubicBezTo>
                <a:cubicBezTo>
                  <a:pt x="21551" y="7893"/>
                  <a:pt x="21560" y="8044"/>
                  <a:pt x="21530" y="8086"/>
                </a:cubicBezTo>
                <a:cubicBezTo>
                  <a:pt x="21448" y="8200"/>
                  <a:pt x="21298" y="8194"/>
                  <a:pt x="21183" y="8161"/>
                </a:cubicBezTo>
                <a:cubicBezTo>
                  <a:pt x="21076" y="8130"/>
                  <a:pt x="20979" y="8044"/>
                  <a:pt x="20910" y="7962"/>
                </a:cubicBezTo>
                <a:cubicBezTo>
                  <a:pt x="20863" y="7906"/>
                  <a:pt x="20878" y="7903"/>
                  <a:pt x="20836" y="7838"/>
                </a:cubicBezTo>
                <a:cubicBezTo>
                  <a:pt x="20760" y="7719"/>
                  <a:pt x="20746" y="7778"/>
                  <a:pt x="20638" y="7838"/>
                </a:cubicBezTo>
                <a:cubicBezTo>
                  <a:pt x="20692" y="7893"/>
                  <a:pt x="20831" y="7931"/>
                  <a:pt x="20836" y="7789"/>
                </a:cubicBezTo>
                <a:cubicBezTo>
                  <a:pt x="20828" y="7764"/>
                  <a:pt x="20819" y="7739"/>
                  <a:pt x="20811" y="7714"/>
                </a:cubicBezTo>
                <a:cubicBezTo>
                  <a:pt x="20752" y="7744"/>
                  <a:pt x="20697" y="7736"/>
                  <a:pt x="20737" y="7813"/>
                </a:cubicBezTo>
                <a:cubicBezTo>
                  <a:pt x="20802" y="7937"/>
                  <a:pt x="20861" y="7735"/>
                  <a:pt x="20861" y="7689"/>
                </a:cubicBezTo>
                <a:cubicBezTo>
                  <a:pt x="20784" y="7718"/>
                  <a:pt x="20781" y="7726"/>
                  <a:pt x="20762" y="7813"/>
                </a:cubicBezTo>
                <a:cubicBezTo>
                  <a:pt x="20829" y="7785"/>
                  <a:pt x="21031" y="7651"/>
                  <a:pt x="20836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760" y="1428840"/>
            <a:ext cx="4375080" cy="1581120"/>
          </a:xfrm>
          <a:custGeom>
            <a:avLst/>
            <a:gdLst/>
            <a:ahLst/>
            <a:rect l="l" t="t" r="r" b="b"/>
            <a:pathLst>
              <a:path w="12155" h="4391">
                <a:moveTo>
                  <a:pt x="19670" y="3969"/>
                </a:moveTo>
                <a:cubicBezTo>
                  <a:pt x="19690" y="4009"/>
                  <a:pt x="19699" y="4015"/>
                  <a:pt x="19695" y="4043"/>
                </a:cubicBezTo>
              </a:path>
              <a:path w="12155" h="4391">
                <a:moveTo>
                  <a:pt x="7541" y="8359"/>
                </a:moveTo>
                <a:cubicBezTo>
                  <a:pt x="7628" y="8310"/>
                  <a:pt x="7717" y="8230"/>
                  <a:pt x="7813" y="8210"/>
                </a:cubicBezTo>
              </a:path>
              <a:path w="12155" h="4391">
                <a:moveTo>
                  <a:pt x="10319" y="8161"/>
                </a:moveTo>
                <a:cubicBezTo>
                  <a:pt x="10392" y="8136"/>
                  <a:pt x="10416" y="8128"/>
                  <a:pt x="10468" y="8136"/>
                </a:cubicBezTo>
              </a:path>
              <a:path w="12155" h="4391">
                <a:moveTo>
                  <a:pt x="10468" y="8136"/>
                </a:moveTo>
                <a:lnTo>
                  <a:pt x="10468" y="813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55000" y="1258920"/>
            <a:ext cx="115920" cy="90360"/>
          </a:xfrm>
          <a:custGeom>
            <a:avLst/>
            <a:gdLst/>
            <a:ahLst/>
            <a:rect l="l" t="t" r="r" b="b"/>
            <a:pathLst>
              <a:path w="323" h="250">
                <a:moveTo>
                  <a:pt x="22374" y="3572"/>
                </a:moveTo>
                <a:cubicBezTo>
                  <a:pt x="22442" y="3523"/>
                  <a:pt x="22489" y="3497"/>
                  <a:pt x="22572" y="3497"/>
                </a:cubicBezTo>
                <a:cubicBezTo>
                  <a:pt x="22549" y="3612"/>
                  <a:pt x="22507" y="3662"/>
                  <a:pt x="22423" y="3746"/>
                </a:cubicBezTo>
                <a:cubicBezTo>
                  <a:pt x="22509" y="3734"/>
                  <a:pt x="22582" y="3721"/>
                  <a:pt x="22671" y="3721"/>
                </a:cubicBezTo>
                <a:cubicBezTo>
                  <a:pt x="22679" y="3721"/>
                  <a:pt x="22688" y="3721"/>
                  <a:pt x="22696" y="37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74000" y="14828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22175" y="4167"/>
                </a:moveTo>
                <a:cubicBezTo>
                  <a:pt x="22184" y="4218"/>
                  <a:pt x="22200" y="4263"/>
                  <a:pt x="22200" y="4316"/>
                </a:cubicBezTo>
              </a:path>
              <a:path w="745" h="497">
                <a:moveTo>
                  <a:pt x="22175" y="4217"/>
                </a:moveTo>
                <a:cubicBezTo>
                  <a:pt x="22294" y="4179"/>
                  <a:pt x="22350" y="4167"/>
                  <a:pt x="22473" y="4167"/>
                </a:cubicBezTo>
              </a:path>
              <a:path w="745" h="497">
                <a:moveTo>
                  <a:pt x="22721" y="4118"/>
                </a:moveTo>
                <a:cubicBezTo>
                  <a:pt x="22676" y="4142"/>
                  <a:pt x="22476" y="4296"/>
                  <a:pt x="22671" y="4316"/>
                </a:cubicBezTo>
                <a:cubicBezTo>
                  <a:pt x="22778" y="4327"/>
                  <a:pt x="22829" y="4240"/>
                  <a:pt x="22771" y="4167"/>
                </a:cubicBezTo>
                <a:cubicBezTo>
                  <a:pt x="22763" y="4159"/>
                  <a:pt x="22754" y="4150"/>
                  <a:pt x="22746" y="4142"/>
                </a:cubicBezTo>
              </a:path>
              <a:path w="745" h="497">
                <a:moveTo>
                  <a:pt x="22151" y="4614"/>
                </a:moveTo>
                <a:cubicBezTo>
                  <a:pt x="22377" y="4572"/>
                  <a:pt x="22593" y="4482"/>
                  <a:pt x="22820" y="4440"/>
                </a:cubicBezTo>
                <a:cubicBezTo>
                  <a:pt x="22845" y="4440"/>
                  <a:pt x="22870" y="4440"/>
                  <a:pt x="22895" y="44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88200" y="174132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2746" y="4887"/>
                </a:moveTo>
                <a:cubicBezTo>
                  <a:pt x="22781" y="4873"/>
                  <a:pt x="22810" y="4851"/>
                  <a:pt x="22845" y="4837"/>
                </a:cubicBezTo>
                <a:cubicBezTo>
                  <a:pt x="22845" y="4917"/>
                  <a:pt x="22787" y="4968"/>
                  <a:pt x="22746" y="5035"/>
                </a:cubicBezTo>
                <a:cubicBezTo>
                  <a:pt x="22831" y="5078"/>
                  <a:pt x="22894" y="5043"/>
                  <a:pt x="22994" y="5035"/>
                </a:cubicBezTo>
                <a:cubicBezTo>
                  <a:pt x="23002" y="5035"/>
                  <a:pt x="23011" y="5035"/>
                  <a:pt x="23019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38320" y="2768760"/>
            <a:ext cx="2652840" cy="1258560"/>
          </a:xfrm>
          <a:custGeom>
            <a:avLst/>
            <a:gdLst/>
            <a:ahLst/>
            <a:rect l="l" t="t" r="r" b="b"/>
            <a:pathLst>
              <a:path w="7368" h="3499">
                <a:moveTo>
                  <a:pt x="11088" y="7764"/>
                </a:moveTo>
                <a:cubicBezTo>
                  <a:pt x="11220" y="7720"/>
                  <a:pt x="11251" y="7708"/>
                  <a:pt x="11336" y="7689"/>
                </a:cubicBezTo>
              </a:path>
              <a:path w="7368" h="3499">
                <a:moveTo>
                  <a:pt x="11336" y="7689"/>
                </a:moveTo>
                <a:lnTo>
                  <a:pt x="11336" y="7689"/>
                </a:lnTo>
              </a:path>
              <a:path w="7368" h="3499">
                <a:moveTo>
                  <a:pt x="15354" y="9302"/>
                </a:moveTo>
                <a:cubicBezTo>
                  <a:pt x="15401" y="9268"/>
                  <a:pt x="15448" y="9243"/>
                  <a:pt x="15503" y="9227"/>
                </a:cubicBezTo>
              </a:path>
              <a:path w="7368" h="3499">
                <a:moveTo>
                  <a:pt x="15255" y="9451"/>
                </a:moveTo>
                <a:cubicBezTo>
                  <a:pt x="15394" y="9404"/>
                  <a:pt x="15434" y="9390"/>
                  <a:pt x="15528" y="9376"/>
                </a:cubicBezTo>
              </a:path>
              <a:path w="7368" h="3499">
                <a:moveTo>
                  <a:pt x="15528" y="9376"/>
                </a:moveTo>
                <a:lnTo>
                  <a:pt x="15528" y="9376"/>
                </a:lnTo>
              </a:path>
              <a:path w="7368" h="3499">
                <a:moveTo>
                  <a:pt x="8161" y="11063"/>
                </a:moveTo>
                <a:cubicBezTo>
                  <a:pt x="8342" y="10994"/>
                  <a:pt x="8391" y="10975"/>
                  <a:pt x="8508" y="10939"/>
                </a:cubicBezTo>
              </a:path>
              <a:path w="7368" h="3499">
                <a:moveTo>
                  <a:pt x="12502" y="11088"/>
                </a:moveTo>
                <a:cubicBezTo>
                  <a:pt x="12577" y="11080"/>
                  <a:pt x="12649" y="11069"/>
                  <a:pt x="12725" y="11063"/>
                </a:cubicBezTo>
              </a:path>
              <a:path w="7368" h="3499">
                <a:moveTo>
                  <a:pt x="12601" y="11187"/>
                </a:moveTo>
                <a:cubicBezTo>
                  <a:pt x="12698" y="11154"/>
                  <a:pt x="12747" y="11142"/>
                  <a:pt x="12824" y="11137"/>
                </a:cubicBezTo>
              </a:path>
              <a:path w="7368" h="3499">
                <a:moveTo>
                  <a:pt x="12824" y="11137"/>
                </a:moveTo>
                <a:lnTo>
                  <a:pt x="12824" y="1113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21040" y="392904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10790" y="10914"/>
                </a:moveTo>
                <a:cubicBezTo>
                  <a:pt x="10766" y="10918"/>
                  <a:pt x="10649" y="10942"/>
                  <a:pt x="10641" y="10964"/>
                </a:cubicBezTo>
                <a:cubicBezTo>
                  <a:pt x="10641" y="11015"/>
                  <a:pt x="10640" y="11034"/>
                  <a:pt x="10616" y="11063"/>
                </a:cubicBezTo>
                <a:cubicBezTo>
                  <a:pt x="10750" y="11063"/>
                  <a:pt x="10809" y="11064"/>
                  <a:pt x="10914" y="11137"/>
                </a:cubicBezTo>
                <a:cubicBezTo>
                  <a:pt x="10808" y="11282"/>
                  <a:pt x="10794" y="11284"/>
                  <a:pt x="1061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24240" y="2463840"/>
            <a:ext cx="1204920" cy="1224000"/>
          </a:xfrm>
          <a:custGeom>
            <a:avLst/>
            <a:gdLst/>
            <a:ahLst/>
            <a:rect l="l" t="t" r="r" b="b"/>
            <a:pathLst>
              <a:path w="3349" h="3399">
                <a:moveTo>
                  <a:pt x="12030" y="6896"/>
                </a:moveTo>
                <a:cubicBezTo>
                  <a:pt x="12030" y="6888"/>
                  <a:pt x="12030" y="6879"/>
                  <a:pt x="12030" y="6871"/>
                </a:cubicBezTo>
                <a:cubicBezTo>
                  <a:pt x="12030" y="6808"/>
                  <a:pt x="12004" y="6947"/>
                  <a:pt x="12080" y="6896"/>
                </a:cubicBezTo>
                <a:cubicBezTo>
                  <a:pt x="12125" y="6866"/>
                  <a:pt x="11987" y="6936"/>
                  <a:pt x="12055" y="6945"/>
                </a:cubicBezTo>
                <a:cubicBezTo>
                  <a:pt x="12105" y="6952"/>
                  <a:pt x="12080" y="6858"/>
                  <a:pt x="12080" y="6921"/>
                </a:cubicBezTo>
              </a:path>
              <a:path w="3349" h="3399">
                <a:moveTo>
                  <a:pt x="15032" y="9723"/>
                </a:moveTo>
                <a:cubicBezTo>
                  <a:pt x="15054" y="9768"/>
                  <a:pt x="15091" y="9683"/>
                  <a:pt x="15081" y="9798"/>
                </a:cubicBezTo>
                <a:cubicBezTo>
                  <a:pt x="15057" y="10065"/>
                  <a:pt x="14861" y="10106"/>
                  <a:pt x="14635" y="10071"/>
                </a:cubicBezTo>
                <a:cubicBezTo>
                  <a:pt x="14512" y="10052"/>
                  <a:pt x="14474" y="10042"/>
                  <a:pt x="14412" y="9947"/>
                </a:cubicBezTo>
                <a:cubicBezTo>
                  <a:pt x="14393" y="9918"/>
                  <a:pt x="14398" y="9898"/>
                  <a:pt x="14387" y="9872"/>
                </a:cubicBezTo>
                <a:cubicBezTo>
                  <a:pt x="14351" y="9965"/>
                  <a:pt x="14325" y="10052"/>
                  <a:pt x="14238" y="10120"/>
                </a:cubicBezTo>
                <a:cubicBezTo>
                  <a:pt x="14115" y="10216"/>
                  <a:pt x="13905" y="10235"/>
                  <a:pt x="13767" y="10145"/>
                </a:cubicBezTo>
                <a:cubicBezTo>
                  <a:pt x="13722" y="10116"/>
                  <a:pt x="13618" y="10026"/>
                  <a:pt x="13618" y="9971"/>
                </a:cubicBezTo>
                <a:cubicBezTo>
                  <a:pt x="13618" y="9947"/>
                  <a:pt x="13618" y="9939"/>
                  <a:pt x="13643" y="9947"/>
                </a:cubicBezTo>
                <a:cubicBezTo>
                  <a:pt x="13604" y="10034"/>
                  <a:pt x="13577" y="10164"/>
                  <a:pt x="13469" y="10195"/>
                </a:cubicBezTo>
                <a:cubicBezTo>
                  <a:pt x="13358" y="10227"/>
                  <a:pt x="13316" y="10149"/>
                  <a:pt x="13271" y="10071"/>
                </a:cubicBezTo>
                <a:cubicBezTo>
                  <a:pt x="13251" y="10036"/>
                  <a:pt x="13256" y="10025"/>
                  <a:pt x="13246" y="9996"/>
                </a:cubicBezTo>
                <a:cubicBezTo>
                  <a:pt x="13208" y="10109"/>
                  <a:pt x="13211" y="10169"/>
                  <a:pt x="13072" y="10220"/>
                </a:cubicBezTo>
                <a:cubicBezTo>
                  <a:pt x="12973" y="10256"/>
                  <a:pt x="12762" y="10288"/>
                  <a:pt x="12725" y="10145"/>
                </a:cubicBezTo>
                <a:cubicBezTo>
                  <a:pt x="12718" y="10117"/>
                  <a:pt x="12727" y="10076"/>
                  <a:pt x="12725" y="10046"/>
                </a:cubicBezTo>
                <a:cubicBezTo>
                  <a:pt x="12673" y="10150"/>
                  <a:pt x="12640" y="10215"/>
                  <a:pt x="12502" y="10244"/>
                </a:cubicBezTo>
                <a:cubicBezTo>
                  <a:pt x="12320" y="10282"/>
                  <a:pt x="12270" y="10232"/>
                  <a:pt x="12179" y="10096"/>
                </a:cubicBezTo>
                <a:cubicBezTo>
                  <a:pt x="12151" y="10054"/>
                  <a:pt x="12096" y="9971"/>
                  <a:pt x="12080" y="9947"/>
                </a:cubicBezTo>
              </a:path>
              <a:path w="3349" h="3399">
                <a:moveTo>
                  <a:pt x="11757" y="9723"/>
                </a:moveTo>
                <a:cubicBezTo>
                  <a:pt x="11729" y="9772"/>
                  <a:pt x="11751" y="9879"/>
                  <a:pt x="11832" y="9823"/>
                </a:cubicBezTo>
                <a:cubicBezTo>
                  <a:pt x="11905" y="9772"/>
                  <a:pt x="11843" y="9670"/>
                  <a:pt x="11807" y="9624"/>
                </a:cubicBezTo>
                <a:cubicBezTo>
                  <a:pt x="11801" y="9650"/>
                  <a:pt x="11746" y="9892"/>
                  <a:pt x="11857" y="9798"/>
                </a:cubicBezTo>
                <a:cubicBezTo>
                  <a:pt x="11880" y="9750"/>
                  <a:pt x="11888" y="9735"/>
                  <a:pt x="11881" y="9699"/>
                </a:cubicBezTo>
                <a:cubicBezTo>
                  <a:pt x="11808" y="9699"/>
                  <a:pt x="11773" y="9780"/>
                  <a:pt x="11832" y="9773"/>
                </a:cubicBezTo>
                <a:cubicBezTo>
                  <a:pt x="11903" y="9764"/>
                  <a:pt x="11797" y="9763"/>
                  <a:pt x="11931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97360" y="3276720"/>
            <a:ext cx="1036800" cy="215640"/>
          </a:xfrm>
          <a:custGeom>
            <a:avLst/>
            <a:gdLst/>
            <a:ahLst/>
            <a:rect l="l" t="t" r="r" b="b"/>
            <a:pathLst>
              <a:path w="2879" h="597">
                <a:moveTo>
                  <a:pt x="16123" y="9302"/>
                </a:moveTo>
                <a:cubicBezTo>
                  <a:pt x="16157" y="9257"/>
                  <a:pt x="16140" y="9155"/>
                  <a:pt x="16073" y="9128"/>
                </a:cubicBezTo>
                <a:cubicBezTo>
                  <a:pt x="15931" y="9070"/>
                  <a:pt x="15878" y="9242"/>
                  <a:pt x="15825" y="9327"/>
                </a:cubicBezTo>
                <a:cubicBezTo>
                  <a:pt x="15974" y="9349"/>
                  <a:pt x="16027" y="9326"/>
                  <a:pt x="16123" y="9203"/>
                </a:cubicBezTo>
                <a:cubicBezTo>
                  <a:pt x="16123" y="9368"/>
                  <a:pt x="16123" y="9534"/>
                  <a:pt x="16123" y="9699"/>
                </a:cubicBezTo>
              </a:path>
              <a:path w="2879" h="597">
                <a:moveTo>
                  <a:pt x="16495" y="9575"/>
                </a:moveTo>
                <a:cubicBezTo>
                  <a:pt x="16459" y="9598"/>
                  <a:pt x="16459" y="9601"/>
                  <a:pt x="16495" y="9624"/>
                </a:cubicBezTo>
                <a:cubicBezTo>
                  <a:pt x="16531" y="9601"/>
                  <a:pt x="16531" y="9598"/>
                  <a:pt x="16495" y="9575"/>
                </a:cubicBezTo>
              </a:path>
              <a:path w="2879" h="597">
                <a:moveTo>
                  <a:pt x="16917" y="9252"/>
                </a:moveTo>
                <a:cubicBezTo>
                  <a:pt x="16917" y="9362"/>
                  <a:pt x="16935" y="9466"/>
                  <a:pt x="16942" y="9575"/>
                </a:cubicBezTo>
                <a:cubicBezTo>
                  <a:pt x="16942" y="9607"/>
                  <a:pt x="16942" y="9607"/>
                  <a:pt x="16942" y="9550"/>
                </a:cubicBezTo>
              </a:path>
              <a:path w="2879" h="597">
                <a:moveTo>
                  <a:pt x="17090" y="9203"/>
                </a:moveTo>
                <a:cubicBezTo>
                  <a:pt x="17143" y="9334"/>
                  <a:pt x="17076" y="9633"/>
                  <a:pt x="17214" y="9599"/>
                </a:cubicBezTo>
                <a:cubicBezTo>
                  <a:pt x="17222" y="9583"/>
                  <a:pt x="17231" y="9566"/>
                  <a:pt x="17239" y="9550"/>
                </a:cubicBezTo>
              </a:path>
              <a:path w="2879" h="597">
                <a:moveTo>
                  <a:pt x="17562" y="9203"/>
                </a:moveTo>
                <a:cubicBezTo>
                  <a:pt x="17378" y="9276"/>
                  <a:pt x="17396" y="9357"/>
                  <a:pt x="17462" y="9525"/>
                </a:cubicBezTo>
                <a:cubicBezTo>
                  <a:pt x="17603" y="9517"/>
                  <a:pt x="17817" y="9440"/>
                  <a:pt x="17661" y="9252"/>
                </a:cubicBezTo>
                <a:cubicBezTo>
                  <a:pt x="17598" y="9210"/>
                  <a:pt x="17586" y="9194"/>
                  <a:pt x="17537" y="9203"/>
                </a:cubicBezTo>
              </a:path>
              <a:path w="2879" h="597">
                <a:moveTo>
                  <a:pt x="17810" y="9178"/>
                </a:moveTo>
                <a:cubicBezTo>
                  <a:pt x="17915" y="9173"/>
                  <a:pt x="18012" y="9161"/>
                  <a:pt x="18107" y="9178"/>
                </a:cubicBezTo>
                <a:cubicBezTo>
                  <a:pt x="18107" y="9287"/>
                  <a:pt x="18034" y="9638"/>
                  <a:pt x="18157" y="9475"/>
                </a:cubicBezTo>
              </a:path>
              <a:path w="2879" h="597">
                <a:moveTo>
                  <a:pt x="18405" y="9103"/>
                </a:moveTo>
                <a:cubicBezTo>
                  <a:pt x="18395" y="9194"/>
                  <a:pt x="18333" y="9367"/>
                  <a:pt x="18405" y="9451"/>
                </a:cubicBezTo>
                <a:cubicBezTo>
                  <a:pt x="18528" y="9594"/>
                  <a:pt x="18662" y="9428"/>
                  <a:pt x="18703" y="9327"/>
                </a:cubicBezTo>
                <a:cubicBezTo>
                  <a:pt x="18639" y="9337"/>
                  <a:pt x="18328" y="9477"/>
                  <a:pt x="18504" y="9575"/>
                </a:cubicBezTo>
                <a:cubicBezTo>
                  <a:pt x="18529" y="9567"/>
                  <a:pt x="18554" y="9558"/>
                  <a:pt x="18579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41960" y="3946680"/>
            <a:ext cx="179280" cy="98280"/>
          </a:xfrm>
          <a:custGeom>
            <a:avLst/>
            <a:gdLst/>
            <a:ahLst/>
            <a:rect l="l" t="t" r="r" b="b"/>
            <a:pathLst>
              <a:path w="497" h="274">
                <a:moveTo>
                  <a:pt x="14560" y="10964"/>
                </a:moveTo>
                <a:cubicBezTo>
                  <a:pt x="14560" y="11056"/>
                  <a:pt x="14581" y="11165"/>
                  <a:pt x="14560" y="11237"/>
                </a:cubicBezTo>
              </a:path>
              <a:path w="497" h="274">
                <a:moveTo>
                  <a:pt x="14858" y="10964"/>
                </a:moveTo>
                <a:cubicBezTo>
                  <a:pt x="14781" y="11026"/>
                  <a:pt x="14796" y="11062"/>
                  <a:pt x="14784" y="11162"/>
                </a:cubicBezTo>
                <a:cubicBezTo>
                  <a:pt x="14847" y="11167"/>
                  <a:pt x="15164" y="11137"/>
                  <a:pt x="15032" y="10988"/>
                </a:cubicBezTo>
                <a:cubicBezTo>
                  <a:pt x="14959" y="10964"/>
                  <a:pt x="14935" y="10956"/>
                  <a:pt x="14883" y="109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55880" y="2963880"/>
            <a:ext cx="81000" cy="14436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5432" y="8359"/>
                </a:moveTo>
                <a:cubicBezTo>
                  <a:pt x="5432" y="8292"/>
                  <a:pt x="5432" y="8443"/>
                  <a:pt x="5432" y="8458"/>
                </a:cubicBezTo>
                <a:cubicBezTo>
                  <a:pt x="5432" y="8573"/>
                  <a:pt x="5592" y="8452"/>
                  <a:pt x="5655" y="8434"/>
                </a:cubicBezTo>
              </a:path>
              <a:path w="224" h="398">
                <a:moveTo>
                  <a:pt x="5631" y="8235"/>
                </a:moveTo>
                <a:cubicBezTo>
                  <a:pt x="5631" y="8361"/>
                  <a:pt x="5603" y="8523"/>
                  <a:pt x="5655" y="86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8080" y="2938320"/>
            <a:ext cx="97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8830" y="8161"/>
                </a:moveTo>
                <a:cubicBezTo>
                  <a:pt x="8830" y="8266"/>
                  <a:pt x="8828" y="8360"/>
                  <a:pt x="8855" y="84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51120" y="2938320"/>
            <a:ext cx="79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7640" y="8161"/>
                </a:moveTo>
                <a:cubicBezTo>
                  <a:pt x="7641" y="8180"/>
                  <a:pt x="7660" y="8471"/>
                  <a:pt x="7640" y="8458"/>
                </a:cubicBezTo>
                <a:cubicBezTo>
                  <a:pt x="7640" y="8442"/>
                  <a:pt x="7640" y="8425"/>
                  <a:pt x="7640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57240" y="1893960"/>
            <a:ext cx="142920" cy="98280"/>
          </a:xfrm>
          <a:custGeom>
            <a:avLst/>
            <a:gdLst/>
            <a:ahLst/>
            <a:rect l="l" t="t" r="r" b="b"/>
            <a:pathLst>
              <a:path w="398" h="273">
                <a:moveTo>
                  <a:pt x="5159" y="5358"/>
                </a:moveTo>
                <a:cubicBezTo>
                  <a:pt x="5221" y="5319"/>
                  <a:pt x="5289" y="5290"/>
                  <a:pt x="5358" y="5259"/>
                </a:cubicBezTo>
                <a:cubicBezTo>
                  <a:pt x="5392" y="5360"/>
                  <a:pt x="5307" y="5425"/>
                  <a:pt x="5234" y="5507"/>
                </a:cubicBezTo>
                <a:cubicBezTo>
                  <a:pt x="5318" y="5518"/>
                  <a:pt x="5448" y="5446"/>
                  <a:pt x="5556" y="543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6640" y="188424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6325" y="5234"/>
                </a:moveTo>
                <a:cubicBezTo>
                  <a:pt x="6325" y="5320"/>
                  <a:pt x="6339" y="5397"/>
                  <a:pt x="6350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51080" y="1874880"/>
            <a:ext cx="1044720" cy="71280"/>
          </a:xfrm>
          <a:custGeom>
            <a:avLst/>
            <a:gdLst/>
            <a:ahLst/>
            <a:rect l="l" t="t" r="r" b="b"/>
            <a:pathLst>
              <a:path w="2903" h="199">
                <a:moveTo>
                  <a:pt x="6251" y="5383"/>
                </a:moveTo>
                <a:cubicBezTo>
                  <a:pt x="6373" y="5334"/>
                  <a:pt x="6412" y="5318"/>
                  <a:pt x="6499" y="5308"/>
                </a:cubicBezTo>
              </a:path>
              <a:path w="2903" h="199">
                <a:moveTo>
                  <a:pt x="6499" y="5308"/>
                </a:moveTo>
                <a:lnTo>
                  <a:pt x="6499" y="5308"/>
                </a:lnTo>
              </a:path>
              <a:path w="2903" h="199">
                <a:moveTo>
                  <a:pt x="7020" y="5209"/>
                </a:moveTo>
                <a:cubicBezTo>
                  <a:pt x="6956" y="5289"/>
                  <a:pt x="6936" y="5312"/>
                  <a:pt x="6945" y="5407"/>
                </a:cubicBezTo>
                <a:cubicBezTo>
                  <a:pt x="6994" y="5401"/>
                  <a:pt x="7290" y="5353"/>
                  <a:pt x="7144" y="5234"/>
                </a:cubicBezTo>
                <a:cubicBezTo>
                  <a:pt x="7119" y="5226"/>
                  <a:pt x="7094" y="5217"/>
                  <a:pt x="7069" y="5209"/>
                </a:cubicBezTo>
              </a:path>
              <a:path w="2903" h="199">
                <a:moveTo>
                  <a:pt x="8905" y="5283"/>
                </a:moveTo>
                <a:cubicBezTo>
                  <a:pt x="8988" y="5242"/>
                  <a:pt x="9029" y="5221"/>
                  <a:pt x="9128" y="5209"/>
                </a:cubicBezTo>
              </a:path>
              <a:path w="2903" h="199">
                <a:moveTo>
                  <a:pt x="9004" y="5333"/>
                </a:moveTo>
                <a:cubicBezTo>
                  <a:pt x="9071" y="5333"/>
                  <a:pt x="9105" y="5329"/>
                  <a:pt x="9153" y="5308"/>
                </a:cubicBezTo>
              </a:path>
              <a:path w="2903" h="199">
                <a:moveTo>
                  <a:pt x="9153" y="5308"/>
                </a:moveTo>
                <a:lnTo>
                  <a:pt x="9153" y="530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179532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9525" y="5060"/>
                </a:moveTo>
                <a:cubicBezTo>
                  <a:pt x="9565" y="5027"/>
                  <a:pt x="9602" y="5002"/>
                  <a:pt x="9649" y="4986"/>
                </a:cubicBezTo>
                <a:cubicBezTo>
                  <a:pt x="9640" y="5074"/>
                  <a:pt x="9626" y="5182"/>
                  <a:pt x="9575" y="5234"/>
                </a:cubicBezTo>
                <a:cubicBezTo>
                  <a:pt x="9664" y="5234"/>
                  <a:pt x="9714" y="5208"/>
                  <a:pt x="9798" y="518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97200" y="2840040"/>
            <a:ext cx="347760" cy="71280"/>
          </a:xfrm>
          <a:custGeom>
            <a:avLst/>
            <a:gdLst/>
            <a:ahLst/>
            <a:rect l="l" t="t" r="r" b="b"/>
            <a:pathLst>
              <a:path w="969" h="199">
                <a:moveTo>
                  <a:pt x="10269" y="8062"/>
                </a:moveTo>
                <a:cubicBezTo>
                  <a:pt x="10303" y="8058"/>
                  <a:pt x="10471" y="8037"/>
                  <a:pt x="10418" y="8037"/>
                </a:cubicBezTo>
              </a:path>
              <a:path w="969" h="199">
                <a:moveTo>
                  <a:pt x="10988" y="7888"/>
                </a:moveTo>
                <a:cubicBezTo>
                  <a:pt x="10988" y="7979"/>
                  <a:pt x="11083" y="7928"/>
                  <a:pt x="11162" y="7962"/>
                </a:cubicBezTo>
                <a:cubicBezTo>
                  <a:pt x="11219" y="8000"/>
                  <a:pt x="11244" y="7995"/>
                  <a:pt x="11237" y="8037"/>
                </a:cubicBezTo>
                <a:cubicBezTo>
                  <a:pt x="11135" y="8123"/>
                  <a:pt x="11136" y="8081"/>
                  <a:pt x="11013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71800" y="396396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6003" y="11013"/>
                </a:moveTo>
                <a:cubicBezTo>
                  <a:pt x="5946" y="11013"/>
                  <a:pt x="5845" y="10990"/>
                  <a:pt x="5829" y="11038"/>
                </a:cubicBezTo>
                <a:cubicBezTo>
                  <a:pt x="5806" y="11105"/>
                  <a:pt x="5801" y="11123"/>
                  <a:pt x="5779" y="11162"/>
                </a:cubicBezTo>
                <a:cubicBezTo>
                  <a:pt x="5818" y="11188"/>
                  <a:pt x="5889" y="11121"/>
                  <a:pt x="5978" y="11137"/>
                </a:cubicBezTo>
                <a:cubicBezTo>
                  <a:pt x="6162" y="11169"/>
                  <a:pt x="5936" y="11410"/>
                  <a:pt x="5854" y="11435"/>
                </a:cubicBezTo>
                <a:cubicBezTo>
                  <a:pt x="5821" y="11435"/>
                  <a:pt x="5788" y="11435"/>
                  <a:pt x="5755" y="114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2960" y="392904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8310" y="10914"/>
                </a:moveTo>
                <a:cubicBezTo>
                  <a:pt x="8298" y="10982"/>
                  <a:pt x="8292" y="11158"/>
                  <a:pt x="8285" y="111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0880" y="4527720"/>
            <a:ext cx="44280" cy="5364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14883" y="12576"/>
                </a:moveTo>
                <a:cubicBezTo>
                  <a:pt x="14874" y="12611"/>
                  <a:pt x="14800" y="12634"/>
                  <a:pt x="14833" y="12650"/>
                </a:cubicBezTo>
                <a:cubicBezTo>
                  <a:pt x="14868" y="12650"/>
                  <a:pt x="14886" y="12655"/>
                  <a:pt x="14908" y="12675"/>
                </a:cubicBezTo>
                <a:cubicBezTo>
                  <a:pt x="14883" y="12615"/>
                  <a:pt x="14766" y="12675"/>
                  <a:pt x="14808" y="12725"/>
                </a:cubicBezTo>
                <a:cubicBezTo>
                  <a:pt x="14845" y="12768"/>
                  <a:pt x="14900" y="12690"/>
                  <a:pt x="14908" y="12675"/>
                </a:cubicBezTo>
                <a:cubicBezTo>
                  <a:pt x="14908" y="12650"/>
                  <a:pt x="14908" y="12642"/>
                  <a:pt x="14883" y="12650"/>
                </a:cubicBezTo>
                <a:cubicBezTo>
                  <a:pt x="14862" y="12776"/>
                  <a:pt x="14951" y="12679"/>
                  <a:pt x="14932" y="12650"/>
                </a:cubicBezTo>
                <a:cubicBezTo>
                  <a:pt x="14904" y="12650"/>
                  <a:pt x="14894" y="12653"/>
                  <a:pt x="14883" y="126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Skill Practice:  Find the following decimal product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.) 8.1 x 4.2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.) 0.263 • 5.8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785960" y="3251160"/>
            <a:ext cx="1446120" cy="1901880"/>
          </a:xfrm>
          <a:custGeom>
            <a:avLst/>
            <a:gdLst/>
            <a:ahLst/>
            <a:rect l="l" t="t" r="r" b="b"/>
            <a:pathLst>
              <a:path w="4019" h="5284">
                <a:moveTo>
                  <a:pt x="6077" y="9128"/>
                </a:moveTo>
                <a:cubicBezTo>
                  <a:pt x="5932" y="9144"/>
                  <a:pt x="5871" y="9167"/>
                  <a:pt x="5755" y="9252"/>
                </a:cubicBezTo>
                <a:cubicBezTo>
                  <a:pt x="5818" y="9358"/>
                  <a:pt x="6030" y="9394"/>
                  <a:pt x="6077" y="9525"/>
                </a:cubicBezTo>
                <a:cubicBezTo>
                  <a:pt x="6130" y="9672"/>
                  <a:pt x="5908" y="9683"/>
                  <a:pt x="5829" y="9699"/>
                </a:cubicBezTo>
                <a:cubicBezTo>
                  <a:pt x="5920" y="9500"/>
                  <a:pt x="6039" y="9337"/>
                  <a:pt x="6152" y="9153"/>
                </a:cubicBezTo>
              </a:path>
              <a:path w="4019" h="5284">
                <a:moveTo>
                  <a:pt x="7069" y="9029"/>
                </a:moveTo>
                <a:cubicBezTo>
                  <a:pt x="7085" y="9186"/>
                  <a:pt x="7112" y="9342"/>
                  <a:pt x="7119" y="9500"/>
                </a:cubicBezTo>
                <a:cubicBezTo>
                  <a:pt x="7119" y="9508"/>
                  <a:pt x="7119" y="9517"/>
                  <a:pt x="7119" y="9525"/>
                </a:cubicBezTo>
              </a:path>
              <a:path w="4019" h="5284">
                <a:moveTo>
                  <a:pt x="5829" y="10368"/>
                </a:moveTo>
                <a:cubicBezTo>
                  <a:pt x="5791" y="10425"/>
                  <a:pt x="5774" y="10428"/>
                  <a:pt x="5779" y="10468"/>
                </a:cubicBezTo>
                <a:cubicBezTo>
                  <a:pt x="5916" y="10468"/>
                  <a:pt x="6042" y="10466"/>
                  <a:pt x="6176" y="10443"/>
                </a:cubicBezTo>
              </a:path>
              <a:path w="4019" h="5284">
                <a:moveTo>
                  <a:pt x="6201" y="10195"/>
                </a:moveTo>
                <a:cubicBezTo>
                  <a:pt x="6201" y="10408"/>
                  <a:pt x="6227" y="10638"/>
                  <a:pt x="6176" y="10840"/>
                </a:cubicBezTo>
              </a:path>
              <a:path w="4019" h="5284">
                <a:moveTo>
                  <a:pt x="7094" y="10244"/>
                </a:moveTo>
                <a:cubicBezTo>
                  <a:pt x="7221" y="10190"/>
                  <a:pt x="7186" y="10195"/>
                  <a:pt x="7317" y="10195"/>
                </a:cubicBezTo>
                <a:cubicBezTo>
                  <a:pt x="7317" y="10414"/>
                  <a:pt x="7296" y="10492"/>
                  <a:pt x="7144" y="10666"/>
                </a:cubicBezTo>
                <a:cubicBezTo>
                  <a:pt x="7164" y="10557"/>
                  <a:pt x="7245" y="10334"/>
                  <a:pt x="7367" y="10542"/>
                </a:cubicBezTo>
                <a:cubicBezTo>
                  <a:pt x="7388" y="10624"/>
                  <a:pt x="7396" y="10640"/>
                  <a:pt x="7392" y="10691"/>
                </a:cubicBezTo>
              </a:path>
              <a:path w="4019" h="5284">
                <a:moveTo>
                  <a:pt x="7516" y="11187"/>
                </a:moveTo>
                <a:cubicBezTo>
                  <a:pt x="7631" y="11110"/>
                  <a:pt x="7764" y="11120"/>
                  <a:pt x="7764" y="11311"/>
                </a:cubicBezTo>
                <a:cubicBezTo>
                  <a:pt x="7764" y="11495"/>
                  <a:pt x="7656" y="11683"/>
                  <a:pt x="7491" y="11733"/>
                </a:cubicBezTo>
                <a:cubicBezTo>
                  <a:pt x="7526" y="11668"/>
                  <a:pt x="7614" y="11520"/>
                  <a:pt x="7714" y="11609"/>
                </a:cubicBezTo>
                <a:cubicBezTo>
                  <a:pt x="7757" y="11672"/>
                  <a:pt x="7786" y="11697"/>
                  <a:pt x="7714" y="11683"/>
                </a:cubicBezTo>
              </a:path>
              <a:path w="4019" h="5284">
                <a:moveTo>
                  <a:pt x="5854" y="11435"/>
                </a:moveTo>
                <a:cubicBezTo>
                  <a:pt x="5854" y="11620"/>
                  <a:pt x="5826" y="11798"/>
                  <a:pt x="5804" y="11981"/>
                </a:cubicBezTo>
                <a:cubicBezTo>
                  <a:pt x="5804" y="12015"/>
                  <a:pt x="5809" y="12014"/>
                  <a:pt x="5829" y="11956"/>
                </a:cubicBezTo>
              </a:path>
              <a:path w="4019" h="5284">
                <a:moveTo>
                  <a:pt x="6276" y="11435"/>
                </a:moveTo>
                <a:cubicBezTo>
                  <a:pt x="6276" y="11615"/>
                  <a:pt x="6255" y="11767"/>
                  <a:pt x="6300" y="11931"/>
                </a:cubicBezTo>
                <a:cubicBezTo>
                  <a:pt x="6509" y="11959"/>
                  <a:pt x="6605" y="11928"/>
                  <a:pt x="6697" y="11733"/>
                </a:cubicBezTo>
                <a:cubicBezTo>
                  <a:pt x="6697" y="11690"/>
                  <a:pt x="6680" y="11676"/>
                  <a:pt x="6623" y="11683"/>
                </a:cubicBezTo>
                <a:cubicBezTo>
                  <a:pt x="6524" y="11800"/>
                  <a:pt x="6415" y="11876"/>
                  <a:pt x="6598" y="11906"/>
                </a:cubicBezTo>
              </a:path>
              <a:path w="4019" h="5284">
                <a:moveTo>
                  <a:pt x="7640" y="12030"/>
                </a:moveTo>
                <a:cubicBezTo>
                  <a:pt x="7640" y="12141"/>
                  <a:pt x="7558" y="12232"/>
                  <a:pt x="7541" y="12353"/>
                </a:cubicBezTo>
                <a:cubicBezTo>
                  <a:pt x="7541" y="12386"/>
                  <a:pt x="7541" y="12419"/>
                  <a:pt x="7541" y="12452"/>
                </a:cubicBezTo>
                <a:cubicBezTo>
                  <a:pt x="7751" y="12482"/>
                  <a:pt x="7862" y="12413"/>
                  <a:pt x="7813" y="12179"/>
                </a:cubicBezTo>
                <a:cubicBezTo>
                  <a:pt x="7772" y="12096"/>
                  <a:pt x="7772" y="12071"/>
                  <a:pt x="7714" y="12055"/>
                </a:cubicBezTo>
              </a:path>
              <a:path w="4019" h="5284">
                <a:moveTo>
                  <a:pt x="6697" y="12303"/>
                </a:moveTo>
                <a:cubicBezTo>
                  <a:pt x="6665" y="12400"/>
                  <a:pt x="6648" y="12464"/>
                  <a:pt x="6648" y="12576"/>
                </a:cubicBezTo>
                <a:cubicBezTo>
                  <a:pt x="6818" y="12536"/>
                  <a:pt x="6885" y="12507"/>
                  <a:pt x="7020" y="12402"/>
                </a:cubicBezTo>
              </a:path>
              <a:path w="4019" h="5284">
                <a:moveTo>
                  <a:pt x="6921" y="12179"/>
                </a:moveTo>
                <a:cubicBezTo>
                  <a:pt x="6876" y="12346"/>
                  <a:pt x="6857" y="12525"/>
                  <a:pt x="6846" y="12700"/>
                </a:cubicBezTo>
              </a:path>
              <a:path w="4019" h="5284">
                <a:moveTo>
                  <a:pt x="4986" y="12576"/>
                </a:moveTo>
                <a:cubicBezTo>
                  <a:pt x="5084" y="12537"/>
                  <a:pt x="5097" y="12520"/>
                  <a:pt x="5159" y="12526"/>
                </a:cubicBezTo>
                <a:cubicBezTo>
                  <a:pt x="5146" y="12629"/>
                  <a:pt x="5148" y="12662"/>
                  <a:pt x="5085" y="12750"/>
                </a:cubicBezTo>
                <a:cubicBezTo>
                  <a:pt x="5177" y="12750"/>
                  <a:pt x="5311" y="12762"/>
                  <a:pt x="5259" y="12898"/>
                </a:cubicBezTo>
                <a:cubicBezTo>
                  <a:pt x="5194" y="13069"/>
                  <a:pt x="5007" y="13037"/>
                  <a:pt x="4961" y="12923"/>
                </a:cubicBezTo>
              </a:path>
              <a:path w="4019" h="5284">
                <a:moveTo>
                  <a:pt x="5507" y="12526"/>
                </a:moveTo>
                <a:cubicBezTo>
                  <a:pt x="5658" y="12505"/>
                  <a:pt x="5799" y="12519"/>
                  <a:pt x="5804" y="12725"/>
                </a:cubicBezTo>
                <a:cubicBezTo>
                  <a:pt x="5808" y="12893"/>
                  <a:pt x="5666" y="12921"/>
                  <a:pt x="5556" y="12948"/>
                </a:cubicBezTo>
                <a:cubicBezTo>
                  <a:pt x="5584" y="12795"/>
                  <a:pt x="5658" y="12779"/>
                  <a:pt x="5804" y="12849"/>
                </a:cubicBezTo>
                <a:cubicBezTo>
                  <a:pt x="5829" y="12865"/>
                  <a:pt x="5854" y="12882"/>
                  <a:pt x="5879" y="12898"/>
                </a:cubicBezTo>
              </a:path>
              <a:path w="4019" h="5284">
                <a:moveTo>
                  <a:pt x="4986" y="13395"/>
                </a:moveTo>
                <a:cubicBezTo>
                  <a:pt x="5679" y="13175"/>
                  <a:pt x="6373" y="13051"/>
                  <a:pt x="7094" y="12948"/>
                </a:cubicBezTo>
                <a:cubicBezTo>
                  <a:pt x="7313" y="12917"/>
                  <a:pt x="7542" y="12889"/>
                  <a:pt x="7764" y="12874"/>
                </a:cubicBezTo>
              </a:path>
              <a:path w="4019" h="5284">
                <a:moveTo>
                  <a:pt x="7689" y="13196"/>
                </a:moveTo>
                <a:cubicBezTo>
                  <a:pt x="7697" y="13179"/>
                  <a:pt x="7706" y="13163"/>
                  <a:pt x="7714" y="13146"/>
                </a:cubicBezTo>
                <a:cubicBezTo>
                  <a:pt x="7867" y="13197"/>
                  <a:pt x="7981" y="13364"/>
                  <a:pt x="7863" y="13543"/>
                </a:cubicBezTo>
                <a:cubicBezTo>
                  <a:pt x="7773" y="13679"/>
                  <a:pt x="7691" y="13668"/>
                  <a:pt x="7590" y="13618"/>
                </a:cubicBezTo>
                <a:cubicBezTo>
                  <a:pt x="7674" y="13486"/>
                  <a:pt x="7742" y="13460"/>
                  <a:pt x="7888" y="13543"/>
                </a:cubicBezTo>
                <a:cubicBezTo>
                  <a:pt x="7913" y="13560"/>
                  <a:pt x="7937" y="13576"/>
                  <a:pt x="7962" y="13593"/>
                </a:cubicBezTo>
              </a:path>
              <a:path w="4019" h="5284">
                <a:moveTo>
                  <a:pt x="7069" y="13320"/>
                </a:moveTo>
                <a:cubicBezTo>
                  <a:pt x="6890" y="13520"/>
                  <a:pt x="6797" y="13608"/>
                  <a:pt x="6846" y="13866"/>
                </a:cubicBezTo>
                <a:cubicBezTo>
                  <a:pt x="7051" y="13847"/>
                  <a:pt x="7348" y="13817"/>
                  <a:pt x="7268" y="13519"/>
                </a:cubicBezTo>
                <a:cubicBezTo>
                  <a:pt x="7169" y="13369"/>
                  <a:pt x="7135" y="13320"/>
                  <a:pt x="6995" y="13320"/>
                </a:cubicBezTo>
              </a:path>
              <a:path w="4019" h="5284">
                <a:moveTo>
                  <a:pt x="5507" y="11112"/>
                </a:moveTo>
                <a:cubicBezTo>
                  <a:pt x="5507" y="11071"/>
                  <a:pt x="5507" y="11063"/>
                  <a:pt x="5507" y="11038"/>
                </a:cubicBezTo>
                <a:cubicBezTo>
                  <a:pt x="5507" y="11155"/>
                  <a:pt x="5523" y="11268"/>
                  <a:pt x="5531" y="11385"/>
                </a:cubicBezTo>
              </a:path>
              <a:path w="4019" h="5284">
                <a:moveTo>
                  <a:pt x="5904" y="13519"/>
                </a:moveTo>
                <a:cubicBezTo>
                  <a:pt x="5843" y="13598"/>
                  <a:pt x="5881" y="13738"/>
                  <a:pt x="5854" y="13841"/>
                </a:cubicBezTo>
                <a:cubicBezTo>
                  <a:pt x="5846" y="13858"/>
                  <a:pt x="5837" y="13874"/>
                  <a:pt x="5829" y="13891"/>
                </a:cubicBezTo>
                <a:cubicBezTo>
                  <a:pt x="6018" y="13866"/>
                  <a:pt x="6120" y="13820"/>
                  <a:pt x="6226" y="13667"/>
                </a:cubicBezTo>
              </a:path>
              <a:path w="4019" h="5284">
                <a:moveTo>
                  <a:pt x="6003" y="13395"/>
                </a:moveTo>
                <a:cubicBezTo>
                  <a:pt x="6003" y="13614"/>
                  <a:pt x="6002" y="13823"/>
                  <a:pt x="5978" y="14039"/>
                </a:cubicBezTo>
              </a:path>
              <a:path w="4019" h="5284">
                <a:moveTo>
                  <a:pt x="5011" y="13742"/>
                </a:moveTo>
                <a:cubicBezTo>
                  <a:pt x="5047" y="13681"/>
                  <a:pt x="5219" y="13559"/>
                  <a:pt x="5308" y="13618"/>
                </a:cubicBezTo>
                <a:cubicBezTo>
                  <a:pt x="5455" y="13715"/>
                  <a:pt x="5262" y="13885"/>
                  <a:pt x="5209" y="13965"/>
                </a:cubicBezTo>
                <a:cubicBezTo>
                  <a:pt x="5287" y="13834"/>
                  <a:pt x="5415" y="13920"/>
                  <a:pt x="5432" y="14064"/>
                </a:cubicBezTo>
                <a:cubicBezTo>
                  <a:pt x="5450" y="14214"/>
                  <a:pt x="5207" y="14400"/>
                  <a:pt x="5085" y="14263"/>
                </a:cubicBezTo>
                <a:cubicBezTo>
                  <a:pt x="5085" y="14238"/>
                  <a:pt x="5085" y="14213"/>
                  <a:pt x="5085" y="14188"/>
                </a:cubicBezTo>
              </a:path>
              <a:path w="4019" h="5284">
                <a:moveTo>
                  <a:pt x="8508" y="9475"/>
                </a:moveTo>
                <a:cubicBezTo>
                  <a:pt x="8553" y="9511"/>
                  <a:pt x="8587" y="9593"/>
                  <a:pt x="8632" y="9649"/>
                </a:cubicBezTo>
              </a:path>
              <a:path w="4019" h="5284">
                <a:moveTo>
                  <a:pt x="8235" y="9996"/>
                </a:moveTo>
                <a:cubicBezTo>
                  <a:pt x="8425" y="9902"/>
                  <a:pt x="8644" y="9841"/>
                  <a:pt x="8855" y="9798"/>
                </a:cubicBezTo>
                <a:cubicBezTo>
                  <a:pt x="8897" y="9798"/>
                  <a:pt x="8922" y="9798"/>
                  <a:pt x="8880" y="9798"/>
                </a:cubicBezTo>
              </a:path>
              <a:path w="4019" h="5284">
                <a:moveTo>
                  <a:pt x="8731" y="10120"/>
                </a:moveTo>
                <a:cubicBezTo>
                  <a:pt x="8761" y="10091"/>
                  <a:pt x="8776" y="10080"/>
                  <a:pt x="8806" y="10071"/>
                </a:cubicBezTo>
                <a:cubicBezTo>
                  <a:pt x="8875" y="10095"/>
                  <a:pt x="8756" y="10245"/>
                  <a:pt x="8731" y="10294"/>
                </a:cubicBezTo>
                <a:cubicBezTo>
                  <a:pt x="8666" y="10424"/>
                  <a:pt x="8915" y="10267"/>
                  <a:pt x="8979" y="10244"/>
                </a:cubicBezTo>
              </a:path>
              <a:path w="4019" h="5284">
                <a:moveTo>
                  <a:pt x="6400" y="13915"/>
                </a:moveTo>
                <a:cubicBezTo>
                  <a:pt x="6380" y="13939"/>
                  <a:pt x="6343" y="14090"/>
                  <a:pt x="6400" y="14039"/>
                </a:cubicBezTo>
                <a:cubicBezTo>
                  <a:pt x="6408" y="14023"/>
                  <a:pt x="6416" y="14006"/>
                  <a:pt x="6424" y="13990"/>
                </a:cubicBezTo>
                <a:cubicBezTo>
                  <a:pt x="6405" y="13816"/>
                  <a:pt x="6333" y="13989"/>
                  <a:pt x="6350" y="14039"/>
                </a:cubicBezTo>
                <a:cubicBezTo>
                  <a:pt x="6361" y="14072"/>
                  <a:pt x="6426" y="14005"/>
                  <a:pt x="6400" y="139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7960" y="3446640"/>
            <a:ext cx="1322280" cy="580680"/>
          </a:xfrm>
          <a:custGeom>
            <a:avLst/>
            <a:gdLst/>
            <a:ahLst/>
            <a:rect l="l" t="t" r="r" b="b"/>
            <a:pathLst>
              <a:path w="3672" h="1613">
                <a:moveTo>
                  <a:pt x="6573" y="9575"/>
                </a:moveTo>
                <a:cubicBezTo>
                  <a:pt x="6573" y="9591"/>
                  <a:pt x="6573" y="9608"/>
                  <a:pt x="6573" y="9624"/>
                </a:cubicBezTo>
              </a:path>
              <a:path w="3672" h="1613">
                <a:moveTo>
                  <a:pt x="4663" y="10418"/>
                </a:moveTo>
                <a:cubicBezTo>
                  <a:pt x="4747" y="10555"/>
                  <a:pt x="4840" y="10687"/>
                  <a:pt x="4936" y="10815"/>
                </a:cubicBezTo>
              </a:path>
              <a:path w="3672" h="1613">
                <a:moveTo>
                  <a:pt x="4887" y="10492"/>
                </a:moveTo>
                <a:cubicBezTo>
                  <a:pt x="4878" y="10540"/>
                  <a:pt x="4704" y="11048"/>
                  <a:pt x="4862" y="10864"/>
                </a:cubicBezTo>
              </a:path>
              <a:path w="3672" h="1613">
                <a:moveTo>
                  <a:pt x="6722" y="10641"/>
                </a:moveTo>
                <a:cubicBezTo>
                  <a:pt x="6775" y="10641"/>
                  <a:pt x="6809" y="10628"/>
                  <a:pt x="6846" y="10592"/>
                </a:cubicBezTo>
              </a:path>
              <a:path w="3672" h="1613">
                <a:moveTo>
                  <a:pt x="5755" y="11187"/>
                </a:moveTo>
                <a:cubicBezTo>
                  <a:pt x="6320" y="11018"/>
                  <a:pt x="6877" y="10869"/>
                  <a:pt x="7466" y="10815"/>
                </a:cubicBezTo>
                <a:cubicBezTo>
                  <a:pt x="7499" y="10815"/>
                  <a:pt x="7532" y="10815"/>
                  <a:pt x="7565" y="10815"/>
                </a:cubicBezTo>
              </a:path>
              <a:path w="3672" h="1613">
                <a:moveTo>
                  <a:pt x="8210" y="9649"/>
                </a:moveTo>
                <a:cubicBezTo>
                  <a:pt x="8270" y="9619"/>
                  <a:pt x="8296" y="9605"/>
                  <a:pt x="8334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5960" y="3241800"/>
            <a:ext cx="61920" cy="241200"/>
          </a:xfrm>
          <a:custGeom>
            <a:avLst/>
            <a:gdLst/>
            <a:ahLst/>
            <a:rect l="l" t="t" r="r" b="b"/>
            <a:pathLst>
              <a:path w="175" h="671">
                <a:moveTo>
                  <a:pt x="8334" y="9004"/>
                </a:moveTo>
                <a:cubicBezTo>
                  <a:pt x="8370" y="9084"/>
                  <a:pt x="8384" y="9140"/>
                  <a:pt x="8384" y="9227"/>
                </a:cubicBezTo>
              </a:path>
              <a:path w="175" h="671">
                <a:moveTo>
                  <a:pt x="8210" y="9500"/>
                </a:moveTo>
                <a:cubicBezTo>
                  <a:pt x="8223" y="9563"/>
                  <a:pt x="8250" y="9621"/>
                  <a:pt x="8285" y="96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1960" y="2857680"/>
            <a:ext cx="1562040" cy="1420560"/>
          </a:xfrm>
          <a:custGeom>
            <a:avLst/>
            <a:gdLst/>
            <a:ahLst/>
            <a:rect l="l" t="t" r="r" b="b"/>
            <a:pathLst>
              <a:path w="4342" h="3944">
                <a:moveTo>
                  <a:pt x="15627" y="8682"/>
                </a:moveTo>
                <a:cubicBezTo>
                  <a:pt x="15812" y="8602"/>
                  <a:pt x="15953" y="8630"/>
                  <a:pt x="15974" y="8880"/>
                </a:cubicBezTo>
                <a:cubicBezTo>
                  <a:pt x="15996" y="9142"/>
                  <a:pt x="15768" y="9217"/>
                  <a:pt x="15627" y="9103"/>
                </a:cubicBezTo>
                <a:cubicBezTo>
                  <a:pt x="15759" y="8985"/>
                  <a:pt x="15823" y="9031"/>
                  <a:pt x="15974" y="9128"/>
                </a:cubicBezTo>
                <a:cubicBezTo>
                  <a:pt x="15999" y="9145"/>
                  <a:pt x="16024" y="9161"/>
                  <a:pt x="16049" y="9178"/>
                </a:cubicBezTo>
              </a:path>
              <a:path w="4342" h="3944">
                <a:moveTo>
                  <a:pt x="16321" y="8632"/>
                </a:moveTo>
                <a:cubicBezTo>
                  <a:pt x="16295" y="8756"/>
                  <a:pt x="16190" y="9060"/>
                  <a:pt x="16371" y="9128"/>
                </a:cubicBezTo>
                <a:cubicBezTo>
                  <a:pt x="16552" y="9196"/>
                  <a:pt x="16665" y="9050"/>
                  <a:pt x="16694" y="8905"/>
                </a:cubicBezTo>
                <a:cubicBezTo>
                  <a:pt x="16590" y="8974"/>
                  <a:pt x="16556" y="8982"/>
                  <a:pt x="16520" y="9103"/>
                </a:cubicBezTo>
              </a:path>
              <a:path w="4342" h="3944">
                <a:moveTo>
                  <a:pt x="17066" y="8632"/>
                </a:moveTo>
                <a:cubicBezTo>
                  <a:pt x="17141" y="8538"/>
                  <a:pt x="17246" y="8525"/>
                  <a:pt x="17363" y="8533"/>
                </a:cubicBezTo>
                <a:cubicBezTo>
                  <a:pt x="17323" y="8639"/>
                  <a:pt x="17291" y="8695"/>
                  <a:pt x="17214" y="8781"/>
                </a:cubicBezTo>
                <a:cubicBezTo>
                  <a:pt x="17337" y="8756"/>
                  <a:pt x="17502" y="8679"/>
                  <a:pt x="17487" y="8905"/>
                </a:cubicBezTo>
                <a:cubicBezTo>
                  <a:pt x="17474" y="9101"/>
                  <a:pt x="17298" y="9091"/>
                  <a:pt x="17165" y="9054"/>
                </a:cubicBezTo>
              </a:path>
              <a:path w="4342" h="3944">
                <a:moveTo>
                  <a:pt x="16594" y="9599"/>
                </a:moveTo>
                <a:cubicBezTo>
                  <a:pt x="16538" y="9599"/>
                  <a:pt x="16438" y="9599"/>
                  <a:pt x="16396" y="9624"/>
                </a:cubicBezTo>
                <a:cubicBezTo>
                  <a:pt x="16377" y="9636"/>
                  <a:pt x="16372" y="9801"/>
                  <a:pt x="16371" y="9823"/>
                </a:cubicBezTo>
                <a:cubicBezTo>
                  <a:pt x="16371" y="9831"/>
                  <a:pt x="16371" y="9839"/>
                  <a:pt x="16371" y="9847"/>
                </a:cubicBezTo>
                <a:cubicBezTo>
                  <a:pt x="16441" y="9847"/>
                  <a:pt x="16505" y="9796"/>
                  <a:pt x="16570" y="9798"/>
                </a:cubicBezTo>
                <a:cubicBezTo>
                  <a:pt x="16729" y="9803"/>
                  <a:pt x="16823" y="9934"/>
                  <a:pt x="16718" y="10071"/>
                </a:cubicBezTo>
                <a:cubicBezTo>
                  <a:pt x="16647" y="10164"/>
                  <a:pt x="16473" y="10120"/>
                  <a:pt x="16371" y="10120"/>
                </a:cubicBezTo>
              </a:path>
              <a:path w="4342" h="3944">
                <a:moveTo>
                  <a:pt x="17066" y="9922"/>
                </a:moveTo>
                <a:cubicBezTo>
                  <a:pt x="17135" y="9946"/>
                  <a:pt x="17023" y="9954"/>
                  <a:pt x="17165" y="9922"/>
                </a:cubicBezTo>
              </a:path>
              <a:path w="4342" h="3944">
                <a:moveTo>
                  <a:pt x="17611" y="9525"/>
                </a:moveTo>
                <a:cubicBezTo>
                  <a:pt x="17497" y="9533"/>
                  <a:pt x="17482" y="9519"/>
                  <a:pt x="17413" y="9599"/>
                </a:cubicBezTo>
                <a:cubicBezTo>
                  <a:pt x="17446" y="9732"/>
                  <a:pt x="17548" y="9806"/>
                  <a:pt x="17636" y="9922"/>
                </a:cubicBezTo>
                <a:cubicBezTo>
                  <a:pt x="17603" y="9946"/>
                  <a:pt x="17351" y="10018"/>
                  <a:pt x="17438" y="9872"/>
                </a:cubicBezTo>
                <a:cubicBezTo>
                  <a:pt x="17470" y="9819"/>
                  <a:pt x="17688" y="9675"/>
                  <a:pt x="17636" y="9649"/>
                </a:cubicBezTo>
              </a:path>
              <a:path w="4342" h="3944">
                <a:moveTo>
                  <a:pt x="14560" y="10542"/>
                </a:moveTo>
                <a:cubicBezTo>
                  <a:pt x="15015" y="10356"/>
                  <a:pt x="15511" y="10313"/>
                  <a:pt x="15999" y="10269"/>
                </a:cubicBezTo>
                <a:cubicBezTo>
                  <a:pt x="16350" y="10238"/>
                  <a:pt x="17487" y="9968"/>
                  <a:pt x="17835" y="10120"/>
                </a:cubicBezTo>
                <a:cubicBezTo>
                  <a:pt x="17835" y="10153"/>
                  <a:pt x="17835" y="10170"/>
                  <a:pt x="17835" y="10195"/>
                </a:cubicBezTo>
              </a:path>
              <a:path w="4342" h="3944">
                <a:moveTo>
                  <a:pt x="17487" y="10393"/>
                </a:moveTo>
                <a:cubicBezTo>
                  <a:pt x="17476" y="10472"/>
                  <a:pt x="17457" y="10538"/>
                  <a:pt x="17438" y="10616"/>
                </a:cubicBezTo>
                <a:cubicBezTo>
                  <a:pt x="17607" y="10635"/>
                  <a:pt x="17655" y="10615"/>
                  <a:pt x="17810" y="10542"/>
                </a:cubicBezTo>
              </a:path>
              <a:path w="4342" h="3944">
                <a:moveTo>
                  <a:pt x="17835" y="10319"/>
                </a:moveTo>
                <a:cubicBezTo>
                  <a:pt x="17802" y="10483"/>
                  <a:pt x="17817" y="10768"/>
                  <a:pt x="17686" y="10889"/>
                </a:cubicBezTo>
                <a:cubicBezTo>
                  <a:pt x="17678" y="10881"/>
                  <a:pt x="17669" y="10872"/>
                  <a:pt x="17661" y="10864"/>
                </a:cubicBezTo>
              </a:path>
              <a:path w="4342" h="3944">
                <a:moveTo>
                  <a:pt x="16421" y="8310"/>
                </a:moveTo>
                <a:cubicBezTo>
                  <a:pt x="16408" y="8270"/>
                  <a:pt x="16388" y="8293"/>
                  <a:pt x="16446" y="8260"/>
                </a:cubicBezTo>
                <a:cubicBezTo>
                  <a:pt x="16462" y="8252"/>
                  <a:pt x="16479" y="8243"/>
                  <a:pt x="16495" y="8235"/>
                </a:cubicBezTo>
                <a:cubicBezTo>
                  <a:pt x="16476" y="8300"/>
                  <a:pt x="16448" y="8361"/>
                  <a:pt x="16470" y="8384"/>
                </a:cubicBezTo>
                <a:cubicBezTo>
                  <a:pt x="16536" y="8410"/>
                  <a:pt x="16545" y="8382"/>
                  <a:pt x="16619" y="8334"/>
                </a:cubicBezTo>
              </a:path>
              <a:path w="4342" h="3944">
                <a:moveTo>
                  <a:pt x="15677" y="8062"/>
                </a:moveTo>
                <a:cubicBezTo>
                  <a:pt x="15638" y="8071"/>
                  <a:pt x="15563" y="8107"/>
                  <a:pt x="15553" y="8111"/>
                </a:cubicBezTo>
                <a:cubicBezTo>
                  <a:pt x="15528" y="8111"/>
                  <a:pt x="15520" y="8111"/>
                  <a:pt x="15528" y="8136"/>
                </a:cubicBezTo>
                <a:cubicBezTo>
                  <a:pt x="15593" y="8136"/>
                  <a:pt x="15614" y="8102"/>
                  <a:pt x="15677" y="8136"/>
                </a:cubicBezTo>
                <a:cubicBezTo>
                  <a:pt x="15760" y="8181"/>
                  <a:pt x="15653" y="8224"/>
                  <a:pt x="15627" y="8235"/>
                </a:cubicBezTo>
                <a:cubicBezTo>
                  <a:pt x="15587" y="8255"/>
                  <a:pt x="15580" y="8264"/>
                  <a:pt x="15553" y="8260"/>
                </a:cubicBezTo>
              </a:path>
              <a:path w="4342" h="3944">
                <a:moveTo>
                  <a:pt x="17959" y="11261"/>
                </a:moveTo>
                <a:cubicBezTo>
                  <a:pt x="17938" y="11201"/>
                  <a:pt x="17864" y="11209"/>
                  <a:pt x="17810" y="11261"/>
                </a:cubicBezTo>
                <a:cubicBezTo>
                  <a:pt x="17689" y="11378"/>
                  <a:pt x="17678" y="11479"/>
                  <a:pt x="17661" y="11633"/>
                </a:cubicBezTo>
                <a:cubicBezTo>
                  <a:pt x="17824" y="11699"/>
                  <a:pt x="17979" y="11706"/>
                  <a:pt x="18033" y="11485"/>
                </a:cubicBezTo>
                <a:cubicBezTo>
                  <a:pt x="18071" y="11332"/>
                  <a:pt x="17991" y="11323"/>
                  <a:pt x="17884" y="11261"/>
                </a:cubicBezTo>
              </a:path>
              <a:path w="4342" h="3944">
                <a:moveTo>
                  <a:pt x="17140" y="11336"/>
                </a:moveTo>
                <a:cubicBezTo>
                  <a:pt x="17061" y="11340"/>
                  <a:pt x="16942" y="11305"/>
                  <a:pt x="16942" y="11410"/>
                </a:cubicBezTo>
                <a:cubicBezTo>
                  <a:pt x="16942" y="11468"/>
                  <a:pt x="16942" y="11526"/>
                  <a:pt x="16942" y="11584"/>
                </a:cubicBezTo>
                <a:cubicBezTo>
                  <a:pt x="17067" y="11570"/>
                  <a:pt x="17136" y="11522"/>
                  <a:pt x="17165" y="11683"/>
                </a:cubicBezTo>
                <a:cubicBezTo>
                  <a:pt x="17199" y="11868"/>
                  <a:pt x="16999" y="11922"/>
                  <a:pt x="16867" y="11832"/>
                </a:cubicBezTo>
                <a:cubicBezTo>
                  <a:pt x="16826" y="11791"/>
                  <a:pt x="16784" y="11749"/>
                  <a:pt x="16743" y="11708"/>
                </a:cubicBezTo>
              </a:path>
              <a:path w="4342" h="3944">
                <a:moveTo>
                  <a:pt x="16446" y="8136"/>
                </a:moveTo>
                <a:cubicBezTo>
                  <a:pt x="16500" y="8117"/>
                  <a:pt x="16466" y="8111"/>
                  <a:pt x="16495" y="8285"/>
                </a:cubicBezTo>
                <a:cubicBezTo>
                  <a:pt x="16509" y="8367"/>
                  <a:pt x="16520" y="8566"/>
                  <a:pt x="16520" y="8483"/>
                </a:cubicBezTo>
                <a:cubicBezTo>
                  <a:pt x="16520" y="8408"/>
                  <a:pt x="16564" y="8109"/>
                  <a:pt x="16495" y="8086"/>
                </a:cubicBezTo>
              </a:path>
              <a:path w="4342" h="3944">
                <a:moveTo>
                  <a:pt x="15429" y="7962"/>
                </a:moveTo>
                <a:cubicBezTo>
                  <a:pt x="15370" y="7962"/>
                  <a:pt x="15496" y="7941"/>
                  <a:pt x="15528" y="7938"/>
                </a:cubicBezTo>
                <a:cubicBezTo>
                  <a:pt x="15569" y="7934"/>
                  <a:pt x="15615" y="8023"/>
                  <a:pt x="15602" y="8062"/>
                </a:cubicBezTo>
                <a:cubicBezTo>
                  <a:pt x="15589" y="8100"/>
                  <a:pt x="15532" y="8124"/>
                  <a:pt x="15503" y="8136"/>
                </a:cubicBezTo>
                <a:cubicBezTo>
                  <a:pt x="15586" y="8136"/>
                  <a:pt x="15668" y="8136"/>
                  <a:pt x="15751" y="8136"/>
                </a:cubicBezTo>
                <a:cubicBezTo>
                  <a:pt x="15734" y="8245"/>
                  <a:pt x="15702" y="8390"/>
                  <a:pt x="15577" y="8434"/>
                </a:cubicBezTo>
                <a:cubicBezTo>
                  <a:pt x="15552" y="8434"/>
                  <a:pt x="15528" y="8434"/>
                  <a:pt x="15503" y="8434"/>
                </a:cubicBezTo>
              </a:path>
              <a:path w="4342" h="3944">
                <a:moveTo>
                  <a:pt x="18504" y="8409"/>
                </a:moveTo>
                <a:cubicBezTo>
                  <a:pt x="18604" y="8409"/>
                  <a:pt x="18639" y="8381"/>
                  <a:pt x="18752" y="8409"/>
                </a:cubicBezTo>
                <a:cubicBezTo>
                  <a:pt x="18866" y="8438"/>
                  <a:pt x="18770" y="8532"/>
                  <a:pt x="18728" y="8582"/>
                </a:cubicBezTo>
                <a:cubicBezTo>
                  <a:pt x="18778" y="8582"/>
                  <a:pt x="18920" y="8600"/>
                  <a:pt x="18901" y="8682"/>
                </a:cubicBezTo>
                <a:cubicBezTo>
                  <a:pt x="18877" y="8783"/>
                  <a:pt x="18782" y="8781"/>
                  <a:pt x="18703" y="8781"/>
                </a:cubicBezTo>
              </a:path>
              <a:path w="4342" h="3944">
                <a:moveTo>
                  <a:pt x="18604" y="8979"/>
                </a:moveTo>
                <a:cubicBezTo>
                  <a:pt x="18604" y="9054"/>
                  <a:pt x="18604" y="9128"/>
                  <a:pt x="18604" y="92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8120" y="3232080"/>
            <a:ext cx="2098800" cy="509760"/>
          </a:xfrm>
          <a:custGeom>
            <a:avLst/>
            <a:gdLst/>
            <a:ahLst/>
            <a:rect l="l" t="t" r="r" b="b"/>
            <a:pathLst>
              <a:path w="5830" h="1415">
                <a:moveTo>
                  <a:pt x="15180" y="9153"/>
                </a:moveTo>
                <a:cubicBezTo>
                  <a:pt x="15200" y="9194"/>
                  <a:pt x="15198" y="9210"/>
                  <a:pt x="15230" y="9203"/>
                </a:cubicBezTo>
              </a:path>
              <a:path w="5830" h="1415">
                <a:moveTo>
                  <a:pt x="13469" y="10096"/>
                </a:moveTo>
                <a:cubicBezTo>
                  <a:pt x="13553" y="10186"/>
                  <a:pt x="13634" y="10277"/>
                  <a:pt x="13717" y="10368"/>
                </a:cubicBezTo>
              </a:path>
              <a:path w="5830" h="1415">
                <a:moveTo>
                  <a:pt x="13767" y="10021"/>
                </a:moveTo>
                <a:cubicBezTo>
                  <a:pt x="13717" y="10158"/>
                  <a:pt x="13675" y="10275"/>
                  <a:pt x="13593" y="10393"/>
                </a:cubicBezTo>
              </a:path>
              <a:path w="5830" h="1415">
                <a:moveTo>
                  <a:pt x="18604" y="9103"/>
                </a:moveTo>
                <a:cubicBezTo>
                  <a:pt x="18737" y="9082"/>
                  <a:pt x="18771" y="9077"/>
                  <a:pt x="18852" y="9054"/>
                </a:cubicBezTo>
              </a:path>
              <a:path w="5830" h="1415">
                <a:moveTo>
                  <a:pt x="19000" y="8979"/>
                </a:moveTo>
                <a:cubicBezTo>
                  <a:pt x="19031" y="9064"/>
                  <a:pt x="19044" y="9137"/>
                  <a:pt x="19050" y="9227"/>
                </a:cubicBezTo>
              </a:path>
              <a:path w="5830" h="1415">
                <a:moveTo>
                  <a:pt x="19025" y="9525"/>
                </a:moveTo>
                <a:cubicBezTo>
                  <a:pt x="18990" y="9665"/>
                  <a:pt x="19014" y="9757"/>
                  <a:pt x="19199" y="9674"/>
                </a:cubicBezTo>
                <a:cubicBezTo>
                  <a:pt x="19232" y="9649"/>
                  <a:pt x="19265" y="9624"/>
                  <a:pt x="19298" y="95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5240" y="3152880"/>
            <a:ext cx="152640" cy="214200"/>
          </a:xfrm>
          <a:custGeom>
            <a:avLst/>
            <a:gdLst/>
            <a:ahLst/>
            <a:rect l="l" t="t" r="r" b="b"/>
            <a:pathLst>
              <a:path w="423" h="596">
                <a:moveTo>
                  <a:pt x="14684" y="8756"/>
                </a:moveTo>
                <a:cubicBezTo>
                  <a:pt x="14524" y="8803"/>
                  <a:pt x="14455" y="9036"/>
                  <a:pt x="14461" y="9203"/>
                </a:cubicBezTo>
                <a:cubicBezTo>
                  <a:pt x="14478" y="9244"/>
                  <a:pt x="14494" y="9286"/>
                  <a:pt x="14511" y="9327"/>
                </a:cubicBezTo>
                <a:cubicBezTo>
                  <a:pt x="14756" y="9340"/>
                  <a:pt x="14874" y="9252"/>
                  <a:pt x="14883" y="8979"/>
                </a:cubicBezTo>
                <a:cubicBezTo>
                  <a:pt x="14887" y="8856"/>
                  <a:pt x="14848" y="8707"/>
                  <a:pt x="14709" y="8781"/>
                </a:cubicBezTo>
                <a:cubicBezTo>
                  <a:pt x="14701" y="8789"/>
                  <a:pt x="14692" y="8798"/>
                  <a:pt x="14684" y="88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56200" y="3813120"/>
            <a:ext cx="142920" cy="16056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6818" y="10666"/>
                </a:moveTo>
                <a:cubicBezTo>
                  <a:pt x="16818" y="10625"/>
                  <a:pt x="16809" y="10608"/>
                  <a:pt x="16842" y="10616"/>
                </a:cubicBezTo>
                <a:cubicBezTo>
                  <a:pt x="16727" y="10548"/>
                  <a:pt x="16644" y="10690"/>
                  <a:pt x="16594" y="10790"/>
                </a:cubicBezTo>
                <a:cubicBezTo>
                  <a:pt x="16551" y="10922"/>
                  <a:pt x="16530" y="10954"/>
                  <a:pt x="16570" y="11038"/>
                </a:cubicBezTo>
                <a:cubicBezTo>
                  <a:pt x="16765" y="11018"/>
                  <a:pt x="16930" y="10981"/>
                  <a:pt x="16942" y="10740"/>
                </a:cubicBezTo>
                <a:cubicBezTo>
                  <a:pt x="16919" y="10648"/>
                  <a:pt x="16918" y="10618"/>
                  <a:pt x="16842" y="106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32640" y="3911760"/>
            <a:ext cx="9360" cy="160200"/>
          </a:xfrm>
          <a:custGeom>
            <a:avLst/>
            <a:gdLst/>
            <a:ahLst/>
            <a:rect l="l" t="t" r="r" b="b"/>
            <a:pathLst>
              <a:path w="25" h="448">
                <a:moveTo>
                  <a:pt x="15925" y="10864"/>
                </a:moveTo>
                <a:cubicBezTo>
                  <a:pt x="15925" y="11005"/>
                  <a:pt x="15944" y="11144"/>
                  <a:pt x="15949" y="11286"/>
                </a:cubicBezTo>
                <a:cubicBezTo>
                  <a:pt x="15949" y="11314"/>
                  <a:pt x="15947" y="11320"/>
                  <a:pt x="15925" y="112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2955960"/>
            <a:ext cx="88920" cy="133200"/>
          </a:xfrm>
          <a:custGeom>
            <a:avLst/>
            <a:gdLst/>
            <a:ahLst/>
            <a:rect l="l" t="t" r="r" b="b"/>
            <a:pathLst>
              <a:path w="250" h="373">
                <a:moveTo>
                  <a:pt x="14163" y="8285"/>
                </a:moveTo>
                <a:cubicBezTo>
                  <a:pt x="14117" y="8238"/>
                  <a:pt x="14205" y="8227"/>
                  <a:pt x="14263" y="8210"/>
                </a:cubicBezTo>
                <a:cubicBezTo>
                  <a:pt x="14311" y="8387"/>
                  <a:pt x="14263" y="8451"/>
                  <a:pt x="14114" y="8558"/>
                </a:cubicBezTo>
                <a:cubicBezTo>
                  <a:pt x="14064" y="8582"/>
                  <a:pt x="14048" y="8590"/>
                  <a:pt x="14039" y="8533"/>
                </a:cubicBezTo>
                <a:cubicBezTo>
                  <a:pt x="14127" y="8445"/>
                  <a:pt x="14162" y="8490"/>
                  <a:pt x="14263" y="8533"/>
                </a:cubicBezTo>
                <a:cubicBezTo>
                  <a:pt x="14271" y="8533"/>
                  <a:pt x="14280" y="8533"/>
                  <a:pt x="14288" y="85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76880" y="3884760"/>
            <a:ext cx="216000" cy="2142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14858" y="10864"/>
                </a:moveTo>
                <a:cubicBezTo>
                  <a:pt x="14890" y="10832"/>
                  <a:pt x="14970" y="10809"/>
                  <a:pt x="15032" y="10790"/>
                </a:cubicBezTo>
                <a:cubicBezTo>
                  <a:pt x="15173" y="11016"/>
                  <a:pt x="15162" y="11183"/>
                  <a:pt x="14908" y="11336"/>
                </a:cubicBezTo>
                <a:cubicBezTo>
                  <a:pt x="14774" y="11380"/>
                  <a:pt x="14738" y="11403"/>
                  <a:pt x="14660" y="11336"/>
                </a:cubicBezTo>
                <a:cubicBezTo>
                  <a:pt x="14728" y="11183"/>
                  <a:pt x="14874" y="11173"/>
                  <a:pt x="15032" y="11261"/>
                </a:cubicBezTo>
                <a:cubicBezTo>
                  <a:pt x="15172" y="11339"/>
                  <a:pt x="15086" y="11349"/>
                  <a:pt x="15255" y="113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03920" y="4179960"/>
            <a:ext cx="9360" cy="142920"/>
          </a:xfrm>
          <a:custGeom>
            <a:avLst/>
            <a:gdLst/>
            <a:ahLst/>
            <a:rect l="l" t="t" r="r" b="b"/>
            <a:pathLst>
              <a:path w="26" h="397">
                <a:moveTo>
                  <a:pt x="16148" y="11609"/>
                </a:moveTo>
                <a:cubicBezTo>
                  <a:pt x="16098" y="11724"/>
                  <a:pt x="16143" y="11856"/>
                  <a:pt x="16148" y="11981"/>
                </a:cubicBezTo>
                <a:cubicBezTo>
                  <a:pt x="16148" y="11989"/>
                  <a:pt x="16148" y="11997"/>
                  <a:pt x="16148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84880" y="42148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4957" y="11807"/>
                </a:moveTo>
                <a:cubicBezTo>
                  <a:pt x="15000" y="11779"/>
                  <a:pt x="15197" y="11672"/>
                  <a:pt x="15205" y="11733"/>
                </a:cubicBezTo>
                <a:cubicBezTo>
                  <a:pt x="15223" y="11863"/>
                  <a:pt x="15169" y="11884"/>
                  <a:pt x="15081" y="11956"/>
                </a:cubicBezTo>
                <a:cubicBezTo>
                  <a:pt x="15140" y="11941"/>
                  <a:pt x="15269" y="11890"/>
                  <a:pt x="15329" y="11956"/>
                </a:cubicBezTo>
                <a:cubicBezTo>
                  <a:pt x="15466" y="12106"/>
                  <a:pt x="15224" y="12281"/>
                  <a:pt x="15081" y="12229"/>
                </a:cubicBezTo>
                <a:cubicBezTo>
                  <a:pt x="15040" y="12196"/>
                  <a:pt x="14998" y="12162"/>
                  <a:pt x="14957" y="121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89680" y="2938320"/>
            <a:ext cx="27000" cy="160560"/>
          </a:xfrm>
          <a:custGeom>
            <a:avLst/>
            <a:gdLst/>
            <a:ahLst/>
            <a:rect l="l" t="t" r="r" b="b"/>
            <a:pathLst>
              <a:path w="75" h="447">
                <a:moveTo>
                  <a:pt x="14213" y="8458"/>
                </a:moveTo>
                <a:cubicBezTo>
                  <a:pt x="14190" y="8406"/>
                  <a:pt x="14188" y="8388"/>
                  <a:pt x="14188" y="8334"/>
                </a:cubicBezTo>
                <a:cubicBezTo>
                  <a:pt x="14188" y="8252"/>
                  <a:pt x="14188" y="8451"/>
                  <a:pt x="14188" y="8533"/>
                </a:cubicBezTo>
                <a:cubicBezTo>
                  <a:pt x="14188" y="8726"/>
                  <a:pt x="14188" y="8516"/>
                  <a:pt x="14188" y="8508"/>
                </a:cubicBezTo>
                <a:cubicBezTo>
                  <a:pt x="14181" y="8449"/>
                  <a:pt x="14122" y="8156"/>
                  <a:pt x="14139" y="8186"/>
                </a:cubicBezTo>
                <a:cubicBezTo>
                  <a:pt x="14169" y="8238"/>
                  <a:pt x="14188" y="8591"/>
                  <a:pt x="14188" y="8409"/>
                </a:cubicBezTo>
                <a:cubicBezTo>
                  <a:pt x="14188" y="8359"/>
                  <a:pt x="14188" y="8310"/>
                  <a:pt x="14188" y="8260"/>
                </a:cubicBezTo>
                <a:cubicBezTo>
                  <a:pt x="14153" y="8121"/>
                  <a:pt x="14186" y="8516"/>
                  <a:pt x="14188" y="85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99040" y="4232160"/>
            <a:ext cx="17640" cy="179640"/>
          </a:xfrm>
          <a:custGeom>
            <a:avLst/>
            <a:gdLst/>
            <a:ahLst/>
            <a:rect l="l" t="t" r="r" b="b"/>
            <a:pathLst>
              <a:path w="51" h="498">
                <a:moveTo>
                  <a:pt x="14163" y="11757"/>
                </a:moveTo>
                <a:cubicBezTo>
                  <a:pt x="14174" y="11905"/>
                  <a:pt x="14195" y="12063"/>
                  <a:pt x="14213" y="12204"/>
                </a:cubicBezTo>
                <a:cubicBezTo>
                  <a:pt x="14213" y="12221"/>
                  <a:pt x="14213" y="12237"/>
                  <a:pt x="14213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29120" y="4321080"/>
            <a:ext cx="1492200" cy="223920"/>
          </a:xfrm>
          <a:custGeom>
            <a:avLst/>
            <a:gdLst/>
            <a:ahLst/>
            <a:rect l="l" t="t" r="r" b="b"/>
            <a:pathLst>
              <a:path w="4144" h="622">
                <a:moveTo>
                  <a:pt x="13692" y="12626"/>
                </a:moveTo>
                <a:cubicBezTo>
                  <a:pt x="14158" y="12569"/>
                  <a:pt x="14617" y="12496"/>
                  <a:pt x="15081" y="12427"/>
                </a:cubicBezTo>
                <a:cubicBezTo>
                  <a:pt x="15662" y="12341"/>
                  <a:pt x="16239" y="12251"/>
                  <a:pt x="16818" y="12154"/>
                </a:cubicBezTo>
                <a:cubicBezTo>
                  <a:pt x="16962" y="12130"/>
                  <a:pt x="17100" y="12136"/>
                  <a:pt x="17239" y="12105"/>
                </a:cubicBezTo>
                <a:cubicBezTo>
                  <a:pt x="17361" y="12078"/>
                  <a:pt x="17488" y="12056"/>
                  <a:pt x="17611" y="12030"/>
                </a:cubicBezTo>
                <a:cubicBezTo>
                  <a:pt x="17692" y="12013"/>
                  <a:pt x="17755" y="12009"/>
                  <a:pt x="17835" y="120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3880" y="4464000"/>
            <a:ext cx="982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18008" y="12402"/>
                </a:moveTo>
                <a:cubicBezTo>
                  <a:pt x="17995" y="12480"/>
                  <a:pt x="17983" y="12544"/>
                  <a:pt x="17983" y="12626"/>
                </a:cubicBezTo>
                <a:cubicBezTo>
                  <a:pt x="18116" y="12616"/>
                  <a:pt x="18151" y="12602"/>
                  <a:pt x="18256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27880" y="4402080"/>
            <a:ext cx="63360" cy="258840"/>
          </a:xfrm>
          <a:custGeom>
            <a:avLst/>
            <a:gdLst/>
            <a:ahLst/>
            <a:rect l="l" t="t" r="r" b="b"/>
            <a:pathLst>
              <a:path w="175" h="720">
                <a:moveTo>
                  <a:pt x="18306" y="12229"/>
                </a:moveTo>
                <a:cubicBezTo>
                  <a:pt x="18246" y="12438"/>
                  <a:pt x="18222" y="12661"/>
                  <a:pt x="18157" y="12874"/>
                </a:cubicBezTo>
                <a:cubicBezTo>
                  <a:pt x="18149" y="12899"/>
                  <a:pt x="18140" y="12923"/>
                  <a:pt x="18132" y="129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4500720"/>
            <a:ext cx="169920" cy="196560"/>
          </a:xfrm>
          <a:custGeom>
            <a:avLst/>
            <a:gdLst/>
            <a:ahLst/>
            <a:rect l="l" t="t" r="r" b="b"/>
            <a:pathLst>
              <a:path w="473" h="546">
                <a:moveTo>
                  <a:pt x="17413" y="12502"/>
                </a:moveTo>
                <a:cubicBezTo>
                  <a:pt x="17369" y="12519"/>
                  <a:pt x="17326" y="12541"/>
                  <a:pt x="17314" y="12576"/>
                </a:cubicBezTo>
                <a:cubicBezTo>
                  <a:pt x="17295" y="12633"/>
                  <a:pt x="17224" y="12753"/>
                  <a:pt x="17289" y="12774"/>
                </a:cubicBezTo>
                <a:cubicBezTo>
                  <a:pt x="17376" y="12757"/>
                  <a:pt x="17587" y="12654"/>
                  <a:pt x="17587" y="12849"/>
                </a:cubicBezTo>
                <a:cubicBezTo>
                  <a:pt x="17587" y="13032"/>
                  <a:pt x="17322" y="13062"/>
                  <a:pt x="17214" y="12998"/>
                </a:cubicBezTo>
                <a:cubicBezTo>
                  <a:pt x="17181" y="12973"/>
                  <a:pt x="17148" y="12948"/>
                  <a:pt x="17115" y="129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11920" y="4527720"/>
            <a:ext cx="115920" cy="19656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6446" y="12601"/>
                </a:moveTo>
                <a:cubicBezTo>
                  <a:pt x="16627" y="12562"/>
                  <a:pt x="16784" y="12598"/>
                  <a:pt x="16743" y="12849"/>
                </a:cubicBezTo>
                <a:cubicBezTo>
                  <a:pt x="16713" y="13032"/>
                  <a:pt x="16583" y="13082"/>
                  <a:pt x="16446" y="13122"/>
                </a:cubicBezTo>
                <a:cubicBezTo>
                  <a:pt x="16402" y="12976"/>
                  <a:pt x="16415" y="12916"/>
                  <a:pt x="16594" y="12973"/>
                </a:cubicBezTo>
                <a:cubicBezTo>
                  <a:pt x="16693" y="13005"/>
                  <a:pt x="16701" y="13022"/>
                  <a:pt x="16743" y="130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73800" y="4581360"/>
            <a:ext cx="11736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5453" y="12725"/>
                </a:moveTo>
                <a:cubicBezTo>
                  <a:pt x="15393" y="12735"/>
                  <a:pt x="15342" y="12750"/>
                  <a:pt x="15280" y="12750"/>
                </a:cubicBezTo>
                <a:cubicBezTo>
                  <a:pt x="15219" y="12750"/>
                  <a:pt x="15209" y="12897"/>
                  <a:pt x="15205" y="12948"/>
                </a:cubicBezTo>
                <a:cubicBezTo>
                  <a:pt x="15205" y="12956"/>
                  <a:pt x="15205" y="12965"/>
                  <a:pt x="15205" y="12973"/>
                </a:cubicBezTo>
                <a:cubicBezTo>
                  <a:pt x="15277" y="12949"/>
                  <a:pt x="15397" y="12868"/>
                  <a:pt x="15478" y="12948"/>
                </a:cubicBezTo>
                <a:cubicBezTo>
                  <a:pt x="15608" y="13078"/>
                  <a:pt x="15479" y="13171"/>
                  <a:pt x="15354" y="13196"/>
                </a:cubicBezTo>
                <a:cubicBezTo>
                  <a:pt x="15280" y="13196"/>
                  <a:pt x="15255" y="13196"/>
                  <a:pt x="15205" y="131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9240" y="4653000"/>
            <a:ext cx="9720" cy="222120"/>
          </a:xfrm>
          <a:custGeom>
            <a:avLst/>
            <a:gdLst/>
            <a:ahLst/>
            <a:rect l="l" t="t" r="r" b="b"/>
            <a:pathLst>
              <a:path w="26" h="621">
                <a:moveTo>
                  <a:pt x="14610" y="12923"/>
                </a:moveTo>
                <a:cubicBezTo>
                  <a:pt x="14610" y="13064"/>
                  <a:pt x="14632" y="13203"/>
                  <a:pt x="14635" y="13345"/>
                </a:cubicBezTo>
                <a:cubicBezTo>
                  <a:pt x="14637" y="13451"/>
                  <a:pt x="14627" y="13461"/>
                  <a:pt x="14610" y="135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24800" y="3313080"/>
            <a:ext cx="258480" cy="71640"/>
          </a:xfrm>
          <a:custGeom>
            <a:avLst/>
            <a:gdLst/>
            <a:ahLst/>
            <a:rect l="l" t="t" r="r" b="b"/>
            <a:pathLst>
              <a:path w="720" h="199">
                <a:moveTo>
                  <a:pt x="18678" y="9401"/>
                </a:moveTo>
                <a:cubicBezTo>
                  <a:pt x="18872" y="9336"/>
                  <a:pt x="19193" y="9174"/>
                  <a:pt x="19397" y="9203"/>
                </a:cubicBezTo>
                <a:cubicBezTo>
                  <a:pt x="19389" y="9211"/>
                  <a:pt x="19380" y="9219"/>
                  <a:pt x="19372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12000" y="337500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9248" y="9376"/>
                </a:moveTo>
                <a:cubicBezTo>
                  <a:pt x="19241" y="9549"/>
                  <a:pt x="19197" y="9736"/>
                  <a:pt x="19224" y="989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48160" y="4813200"/>
            <a:ext cx="54000" cy="7164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4982" y="13370"/>
                </a:moveTo>
                <a:cubicBezTo>
                  <a:pt x="14926" y="13389"/>
                  <a:pt x="14922" y="13435"/>
                  <a:pt x="14883" y="13494"/>
                </a:cubicBezTo>
                <a:cubicBezTo>
                  <a:pt x="14855" y="13522"/>
                  <a:pt x="14846" y="13535"/>
                  <a:pt x="14858" y="13568"/>
                </a:cubicBezTo>
                <a:cubicBezTo>
                  <a:pt x="14918" y="13538"/>
                  <a:pt x="14893" y="13473"/>
                  <a:pt x="14957" y="13494"/>
                </a:cubicBezTo>
                <a:cubicBezTo>
                  <a:pt x="14988" y="13504"/>
                  <a:pt x="15019" y="13487"/>
                  <a:pt x="14982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To find % 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Convert the % into a decim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6% = .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12% = .12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-  Multiply this decimal by the number you are finding the % of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)  10% of 5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30% of $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10 x 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571840" y="1571760"/>
            <a:ext cx="214200" cy="517320"/>
          </a:xfrm>
          <a:custGeom>
            <a:avLst/>
            <a:gdLst/>
            <a:ahLst/>
            <a:rect l="l" t="t" r="r" b="b"/>
            <a:pathLst>
              <a:path w="596" h="1439">
                <a:moveTo>
                  <a:pt x="7144" y="4440"/>
                </a:moveTo>
                <a:cubicBezTo>
                  <a:pt x="7283" y="4404"/>
                  <a:pt x="7399" y="4375"/>
                  <a:pt x="7541" y="4366"/>
                </a:cubicBezTo>
              </a:path>
              <a:path w="596" h="1439">
                <a:moveTo>
                  <a:pt x="7516" y="4539"/>
                </a:moveTo>
                <a:cubicBezTo>
                  <a:pt x="7478" y="4652"/>
                  <a:pt x="7443" y="4669"/>
                  <a:pt x="7491" y="4762"/>
                </a:cubicBezTo>
                <a:cubicBezTo>
                  <a:pt x="7617" y="4682"/>
                  <a:pt x="7659" y="4676"/>
                  <a:pt x="7590" y="4539"/>
                </a:cubicBezTo>
              </a:path>
              <a:path w="596" h="1439">
                <a:moveTo>
                  <a:pt x="7367" y="5804"/>
                </a:moveTo>
                <a:cubicBezTo>
                  <a:pt x="7494" y="5762"/>
                  <a:pt x="7609" y="5723"/>
                  <a:pt x="7739" y="57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4200" y="1465200"/>
            <a:ext cx="88920" cy="9864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7094" y="4068"/>
                </a:moveTo>
                <a:cubicBezTo>
                  <a:pt x="7094" y="4134"/>
                  <a:pt x="7094" y="4200"/>
                  <a:pt x="7094" y="4266"/>
                </a:cubicBezTo>
                <a:cubicBezTo>
                  <a:pt x="7146" y="4288"/>
                  <a:pt x="7261" y="4322"/>
                  <a:pt x="7317" y="4266"/>
                </a:cubicBezTo>
                <a:cubicBezTo>
                  <a:pt x="7327" y="4256"/>
                  <a:pt x="7338" y="4209"/>
                  <a:pt x="7342" y="4192"/>
                </a:cubicBezTo>
                <a:cubicBezTo>
                  <a:pt x="7263" y="4215"/>
                  <a:pt x="7259" y="4248"/>
                  <a:pt x="7243" y="43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920" y="1660680"/>
            <a:ext cx="115920" cy="10764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6995" y="4663"/>
                </a:moveTo>
                <a:cubicBezTo>
                  <a:pt x="6995" y="4748"/>
                  <a:pt x="6990" y="4817"/>
                  <a:pt x="6970" y="4887"/>
                </a:cubicBezTo>
                <a:cubicBezTo>
                  <a:pt x="6970" y="4895"/>
                  <a:pt x="6970" y="4903"/>
                  <a:pt x="6970" y="4911"/>
                </a:cubicBezTo>
              </a:path>
              <a:path w="324" h="298">
                <a:moveTo>
                  <a:pt x="7193" y="4638"/>
                </a:moveTo>
                <a:cubicBezTo>
                  <a:pt x="7178" y="4714"/>
                  <a:pt x="7169" y="4761"/>
                  <a:pt x="7169" y="4837"/>
                </a:cubicBezTo>
                <a:cubicBezTo>
                  <a:pt x="7246" y="4801"/>
                  <a:pt x="7351" y="4763"/>
                  <a:pt x="7293" y="4638"/>
                </a:cubicBezTo>
                <a:cubicBezTo>
                  <a:pt x="7285" y="4630"/>
                  <a:pt x="7276" y="4622"/>
                  <a:pt x="7268" y="46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08200" y="191916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7243" y="5407"/>
                </a:moveTo>
                <a:cubicBezTo>
                  <a:pt x="7301" y="5498"/>
                  <a:pt x="7246" y="5754"/>
                  <a:pt x="7342" y="5705"/>
                </a:cubicBezTo>
                <a:cubicBezTo>
                  <a:pt x="7350" y="5688"/>
                  <a:pt x="7359" y="5672"/>
                  <a:pt x="7367" y="5655"/>
                </a:cubicBezTo>
              </a:path>
              <a:path w="472" h="373">
                <a:moveTo>
                  <a:pt x="7417" y="5358"/>
                </a:moveTo>
                <a:cubicBezTo>
                  <a:pt x="7457" y="5338"/>
                  <a:pt x="7463" y="5329"/>
                  <a:pt x="7491" y="5333"/>
                </a:cubicBezTo>
                <a:cubicBezTo>
                  <a:pt x="7556" y="5430"/>
                  <a:pt x="7527" y="5474"/>
                  <a:pt x="7491" y="5581"/>
                </a:cubicBezTo>
                <a:cubicBezTo>
                  <a:pt x="7561" y="5563"/>
                  <a:pt x="7639" y="5511"/>
                  <a:pt x="7714" y="54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0760" y="2125800"/>
            <a:ext cx="241200" cy="142560"/>
          </a:xfrm>
          <a:custGeom>
            <a:avLst/>
            <a:gdLst/>
            <a:ahLst/>
            <a:rect l="l" t="t" r="r" b="b"/>
            <a:pathLst>
              <a:path w="671" h="397">
                <a:moveTo>
                  <a:pt x="7417" y="6052"/>
                </a:moveTo>
                <a:cubicBezTo>
                  <a:pt x="7417" y="6056"/>
                  <a:pt x="7392" y="6351"/>
                  <a:pt x="7392" y="6276"/>
                </a:cubicBezTo>
              </a:path>
              <a:path w="671" h="397">
                <a:moveTo>
                  <a:pt x="7590" y="5978"/>
                </a:moveTo>
                <a:cubicBezTo>
                  <a:pt x="7585" y="5987"/>
                  <a:pt x="7484" y="6262"/>
                  <a:pt x="7640" y="6176"/>
                </a:cubicBezTo>
                <a:cubicBezTo>
                  <a:pt x="7720" y="6132"/>
                  <a:pt x="7726" y="5997"/>
                  <a:pt x="7665" y="5953"/>
                </a:cubicBezTo>
                <a:cubicBezTo>
                  <a:pt x="7657" y="5953"/>
                  <a:pt x="7648" y="5953"/>
                  <a:pt x="7640" y="5953"/>
                </a:cubicBezTo>
              </a:path>
              <a:path w="671" h="397">
                <a:moveTo>
                  <a:pt x="7888" y="5928"/>
                </a:moveTo>
                <a:cubicBezTo>
                  <a:pt x="7874" y="6009"/>
                  <a:pt x="7874" y="6021"/>
                  <a:pt x="7888" y="6102"/>
                </a:cubicBezTo>
                <a:cubicBezTo>
                  <a:pt x="7958" y="6065"/>
                  <a:pt x="8188" y="5956"/>
                  <a:pt x="7987" y="5904"/>
                </a:cubicBezTo>
                <a:cubicBezTo>
                  <a:pt x="7971" y="5904"/>
                  <a:pt x="7954" y="5904"/>
                  <a:pt x="7938" y="59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4960" y="4330800"/>
            <a:ext cx="6707160" cy="669960"/>
          </a:xfrm>
          <a:custGeom>
            <a:avLst/>
            <a:gdLst/>
            <a:ahLst/>
            <a:rect l="l" t="t" r="r" b="b"/>
            <a:pathLst>
              <a:path w="18630" h="1862">
                <a:moveTo>
                  <a:pt x="2828" y="12675"/>
                </a:moveTo>
                <a:cubicBezTo>
                  <a:pt x="2783" y="12823"/>
                  <a:pt x="2758" y="12844"/>
                  <a:pt x="2828" y="12973"/>
                </a:cubicBezTo>
                <a:cubicBezTo>
                  <a:pt x="2911" y="12949"/>
                  <a:pt x="3257" y="12745"/>
                  <a:pt x="3001" y="12650"/>
                </a:cubicBezTo>
                <a:cubicBezTo>
                  <a:pt x="2952" y="12650"/>
                  <a:pt x="2902" y="12650"/>
                  <a:pt x="2853" y="12650"/>
                </a:cubicBezTo>
              </a:path>
              <a:path w="18630" h="1862">
                <a:moveTo>
                  <a:pt x="1488" y="13469"/>
                </a:moveTo>
                <a:cubicBezTo>
                  <a:pt x="1597" y="13600"/>
                  <a:pt x="1624" y="13631"/>
                  <a:pt x="1687" y="13717"/>
                </a:cubicBezTo>
              </a:path>
              <a:path w="18630" h="1862">
                <a:moveTo>
                  <a:pt x="1662" y="13444"/>
                </a:moveTo>
                <a:cubicBezTo>
                  <a:pt x="1609" y="13582"/>
                  <a:pt x="1564" y="13716"/>
                  <a:pt x="1488" y="13841"/>
                </a:cubicBezTo>
              </a:path>
              <a:path w="18630" h="1862">
                <a:moveTo>
                  <a:pt x="2084" y="13841"/>
                </a:moveTo>
                <a:cubicBezTo>
                  <a:pt x="2092" y="13858"/>
                  <a:pt x="2100" y="13874"/>
                  <a:pt x="2108" y="13891"/>
                </a:cubicBezTo>
              </a:path>
              <a:path w="18630" h="1862">
                <a:moveTo>
                  <a:pt x="2332" y="13494"/>
                </a:moveTo>
                <a:cubicBezTo>
                  <a:pt x="2369" y="13617"/>
                  <a:pt x="2397" y="13714"/>
                  <a:pt x="2406" y="13841"/>
                </a:cubicBezTo>
              </a:path>
              <a:path w="18630" h="1862">
                <a:moveTo>
                  <a:pt x="17661" y="12105"/>
                </a:moveTo>
                <a:cubicBezTo>
                  <a:pt x="17596" y="12241"/>
                  <a:pt x="17526" y="12354"/>
                  <a:pt x="17438" y="12477"/>
                </a:cubicBezTo>
              </a:path>
              <a:path w="18630" h="1862">
                <a:moveTo>
                  <a:pt x="19819" y="12055"/>
                </a:moveTo>
                <a:cubicBezTo>
                  <a:pt x="19976" y="12032"/>
                  <a:pt x="20017" y="12024"/>
                  <a:pt x="20117" y="12030"/>
                </a:cubicBezTo>
              </a:path>
              <a:path w="18630" h="1862">
                <a:moveTo>
                  <a:pt x="20117" y="12030"/>
                </a:moveTo>
                <a:lnTo>
                  <a:pt x="20117" y="1203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80040" y="4402080"/>
            <a:ext cx="27000" cy="90720"/>
          </a:xfrm>
          <a:custGeom>
            <a:avLst/>
            <a:gdLst/>
            <a:ahLst/>
            <a:rect l="l" t="t" r="r" b="b"/>
            <a:pathLst>
              <a:path w="75" h="249">
                <a:moveTo>
                  <a:pt x="14461" y="12229"/>
                </a:moveTo>
                <a:cubicBezTo>
                  <a:pt x="14461" y="12326"/>
                  <a:pt x="14454" y="12305"/>
                  <a:pt x="14412" y="12402"/>
                </a:cubicBezTo>
                <a:cubicBezTo>
                  <a:pt x="14344" y="12557"/>
                  <a:pt x="14418" y="12420"/>
                  <a:pt x="14436" y="12353"/>
                </a:cubicBezTo>
                <a:cubicBezTo>
                  <a:pt x="14412" y="12369"/>
                  <a:pt x="14412" y="12425"/>
                  <a:pt x="14412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4357800"/>
            <a:ext cx="304920" cy="169920"/>
          </a:xfrm>
          <a:custGeom>
            <a:avLst/>
            <a:gdLst/>
            <a:ahLst/>
            <a:rect l="l" t="t" r="r" b="b"/>
            <a:pathLst>
              <a:path w="844" h="472">
                <a:moveTo>
                  <a:pt x="14734" y="12154"/>
                </a:moveTo>
                <a:cubicBezTo>
                  <a:pt x="14819" y="12137"/>
                  <a:pt x="14920" y="12067"/>
                  <a:pt x="15007" y="12129"/>
                </a:cubicBezTo>
                <a:cubicBezTo>
                  <a:pt x="15121" y="12210"/>
                  <a:pt x="14984" y="12318"/>
                  <a:pt x="14908" y="12353"/>
                </a:cubicBezTo>
                <a:cubicBezTo>
                  <a:pt x="14900" y="12353"/>
                  <a:pt x="14891" y="12353"/>
                  <a:pt x="14883" y="12353"/>
                </a:cubicBezTo>
                <a:cubicBezTo>
                  <a:pt x="14995" y="12296"/>
                  <a:pt x="15107" y="12396"/>
                  <a:pt x="15032" y="12526"/>
                </a:cubicBezTo>
                <a:cubicBezTo>
                  <a:pt x="14977" y="12622"/>
                  <a:pt x="14859" y="12568"/>
                  <a:pt x="14784" y="12551"/>
                </a:cubicBezTo>
              </a:path>
              <a:path w="844" h="472">
                <a:moveTo>
                  <a:pt x="15503" y="12179"/>
                </a:moveTo>
                <a:cubicBezTo>
                  <a:pt x="15376" y="12179"/>
                  <a:pt x="15273" y="12354"/>
                  <a:pt x="15255" y="12502"/>
                </a:cubicBezTo>
                <a:cubicBezTo>
                  <a:pt x="15263" y="12518"/>
                  <a:pt x="15272" y="12535"/>
                  <a:pt x="15280" y="12551"/>
                </a:cubicBezTo>
                <a:cubicBezTo>
                  <a:pt x="15489" y="12551"/>
                  <a:pt x="15664" y="12507"/>
                  <a:pt x="15528" y="12254"/>
                </a:cubicBezTo>
                <a:cubicBezTo>
                  <a:pt x="15511" y="12237"/>
                  <a:pt x="15495" y="12221"/>
                  <a:pt x="15478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96040" y="4375080"/>
            <a:ext cx="982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7487" y="12154"/>
                </a:moveTo>
                <a:cubicBezTo>
                  <a:pt x="17578" y="12265"/>
                  <a:pt x="17825" y="12605"/>
                  <a:pt x="17760" y="12477"/>
                </a:cubicBezTo>
                <a:cubicBezTo>
                  <a:pt x="17752" y="12460"/>
                  <a:pt x="17743" y="12444"/>
                  <a:pt x="17735" y="124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1040" y="4545000"/>
            <a:ext cx="865080" cy="1258920"/>
          </a:xfrm>
          <a:custGeom>
            <a:avLst/>
            <a:gdLst/>
            <a:ahLst/>
            <a:rect l="l" t="t" r="r" b="b"/>
            <a:pathLst>
              <a:path w="2407" h="3498">
                <a:moveTo>
                  <a:pt x="2505" y="12626"/>
                </a:moveTo>
                <a:cubicBezTo>
                  <a:pt x="2411" y="12626"/>
                  <a:pt x="2374" y="12598"/>
                  <a:pt x="2332" y="12675"/>
                </a:cubicBezTo>
                <a:cubicBezTo>
                  <a:pt x="2287" y="12763"/>
                  <a:pt x="2271" y="12784"/>
                  <a:pt x="2282" y="12849"/>
                </a:cubicBezTo>
                <a:cubicBezTo>
                  <a:pt x="2376" y="12835"/>
                  <a:pt x="2515" y="12768"/>
                  <a:pt x="2580" y="12874"/>
                </a:cubicBezTo>
                <a:cubicBezTo>
                  <a:pt x="2700" y="13071"/>
                  <a:pt x="2417" y="13141"/>
                  <a:pt x="2282" y="13097"/>
                </a:cubicBezTo>
                <a:cubicBezTo>
                  <a:pt x="2249" y="13072"/>
                  <a:pt x="2216" y="13047"/>
                  <a:pt x="2183" y="13022"/>
                </a:cubicBezTo>
              </a:path>
              <a:path w="2407" h="3498">
                <a:moveTo>
                  <a:pt x="2877" y="13320"/>
                </a:moveTo>
                <a:cubicBezTo>
                  <a:pt x="2841" y="13503"/>
                  <a:pt x="2798" y="13657"/>
                  <a:pt x="2877" y="13816"/>
                </a:cubicBezTo>
                <a:cubicBezTo>
                  <a:pt x="2994" y="13761"/>
                  <a:pt x="3272" y="13564"/>
                  <a:pt x="3026" y="13419"/>
                </a:cubicBezTo>
                <a:cubicBezTo>
                  <a:pt x="2930" y="13419"/>
                  <a:pt x="2899" y="13417"/>
                  <a:pt x="2877" y="13494"/>
                </a:cubicBezTo>
              </a:path>
              <a:path w="2407" h="3498">
                <a:moveTo>
                  <a:pt x="1786" y="14263"/>
                </a:moveTo>
                <a:cubicBezTo>
                  <a:pt x="2189" y="14155"/>
                  <a:pt x="2598" y="14077"/>
                  <a:pt x="3001" y="13965"/>
                </a:cubicBezTo>
                <a:cubicBezTo>
                  <a:pt x="3075" y="13944"/>
                  <a:pt x="3101" y="13936"/>
                  <a:pt x="3175" y="13915"/>
                </a:cubicBezTo>
              </a:path>
              <a:path w="2407" h="3498">
                <a:moveTo>
                  <a:pt x="3076" y="14139"/>
                </a:moveTo>
                <a:cubicBezTo>
                  <a:pt x="2955" y="14300"/>
                  <a:pt x="2864" y="14406"/>
                  <a:pt x="2977" y="14560"/>
                </a:cubicBezTo>
                <a:cubicBezTo>
                  <a:pt x="3044" y="14507"/>
                  <a:pt x="3399" y="14164"/>
                  <a:pt x="3076" y="14139"/>
                </a:cubicBezTo>
                <a:cubicBezTo>
                  <a:pt x="3010" y="14155"/>
                  <a:pt x="2943" y="14172"/>
                  <a:pt x="2877" y="14188"/>
                </a:cubicBezTo>
              </a:path>
              <a:path w="2407" h="3498">
                <a:moveTo>
                  <a:pt x="2332" y="14288"/>
                </a:moveTo>
                <a:cubicBezTo>
                  <a:pt x="2163" y="14394"/>
                  <a:pt x="2188" y="14498"/>
                  <a:pt x="2232" y="14684"/>
                </a:cubicBezTo>
                <a:cubicBezTo>
                  <a:pt x="2340" y="14679"/>
                  <a:pt x="2819" y="14526"/>
                  <a:pt x="2580" y="14312"/>
                </a:cubicBezTo>
                <a:cubicBezTo>
                  <a:pt x="2458" y="14292"/>
                  <a:pt x="2427" y="14265"/>
                  <a:pt x="2381" y="14337"/>
                </a:cubicBezTo>
              </a:path>
              <a:path w="2407" h="3498">
                <a:moveTo>
                  <a:pt x="3225" y="14833"/>
                </a:moveTo>
                <a:cubicBezTo>
                  <a:pt x="3158" y="14967"/>
                  <a:pt x="3022" y="15074"/>
                  <a:pt x="3051" y="15255"/>
                </a:cubicBezTo>
                <a:cubicBezTo>
                  <a:pt x="3068" y="15280"/>
                  <a:pt x="3084" y="15304"/>
                  <a:pt x="3101" y="15329"/>
                </a:cubicBezTo>
                <a:cubicBezTo>
                  <a:pt x="3202" y="15268"/>
                  <a:pt x="3471" y="15031"/>
                  <a:pt x="3225" y="14908"/>
                </a:cubicBezTo>
                <a:cubicBezTo>
                  <a:pt x="3184" y="14908"/>
                  <a:pt x="3142" y="14908"/>
                  <a:pt x="3101" y="14908"/>
                </a:cubicBezTo>
              </a:path>
              <a:path w="2407" h="3498">
                <a:moveTo>
                  <a:pt x="2729" y="15007"/>
                </a:moveTo>
                <a:cubicBezTo>
                  <a:pt x="2674" y="15007"/>
                  <a:pt x="2622" y="15005"/>
                  <a:pt x="2580" y="15032"/>
                </a:cubicBezTo>
                <a:cubicBezTo>
                  <a:pt x="2502" y="15083"/>
                  <a:pt x="2513" y="15261"/>
                  <a:pt x="2555" y="15329"/>
                </a:cubicBezTo>
                <a:cubicBezTo>
                  <a:pt x="2571" y="15337"/>
                  <a:pt x="2588" y="15346"/>
                  <a:pt x="2604" y="15354"/>
                </a:cubicBezTo>
                <a:cubicBezTo>
                  <a:pt x="2718" y="15333"/>
                  <a:pt x="2977" y="15237"/>
                  <a:pt x="2853" y="15056"/>
                </a:cubicBezTo>
                <a:cubicBezTo>
                  <a:pt x="2814" y="14999"/>
                  <a:pt x="2642" y="15011"/>
                  <a:pt x="2580" y="15007"/>
                </a:cubicBezTo>
              </a:path>
              <a:path w="2407" h="3498">
                <a:moveTo>
                  <a:pt x="2158" y="14957"/>
                </a:moveTo>
                <a:cubicBezTo>
                  <a:pt x="2137" y="14961"/>
                  <a:pt x="2003" y="14968"/>
                  <a:pt x="1984" y="14982"/>
                </a:cubicBezTo>
                <a:cubicBezTo>
                  <a:pt x="1934" y="15018"/>
                  <a:pt x="1960" y="15201"/>
                  <a:pt x="1960" y="15255"/>
                </a:cubicBezTo>
                <a:cubicBezTo>
                  <a:pt x="2064" y="15212"/>
                  <a:pt x="2145" y="15107"/>
                  <a:pt x="2282" y="15180"/>
                </a:cubicBezTo>
                <a:cubicBezTo>
                  <a:pt x="2299" y="15205"/>
                  <a:pt x="2315" y="15230"/>
                  <a:pt x="2332" y="15255"/>
                </a:cubicBezTo>
                <a:cubicBezTo>
                  <a:pt x="2206" y="15405"/>
                  <a:pt x="2154" y="15418"/>
                  <a:pt x="1960" y="15379"/>
                </a:cubicBezTo>
              </a:path>
              <a:path w="2407" h="3498">
                <a:moveTo>
                  <a:pt x="1612" y="15602"/>
                </a:moveTo>
                <a:cubicBezTo>
                  <a:pt x="2036" y="15578"/>
                  <a:pt x="2455" y="15506"/>
                  <a:pt x="2877" y="15453"/>
                </a:cubicBezTo>
                <a:cubicBezTo>
                  <a:pt x="3059" y="15433"/>
                  <a:pt x="3092" y="15425"/>
                  <a:pt x="3200" y="15429"/>
                </a:cubicBezTo>
              </a:path>
              <a:path w="2407" h="3498">
                <a:moveTo>
                  <a:pt x="3274" y="15528"/>
                </a:moveTo>
                <a:cubicBezTo>
                  <a:pt x="3228" y="15666"/>
                  <a:pt x="3150" y="15715"/>
                  <a:pt x="3150" y="15875"/>
                </a:cubicBezTo>
                <a:cubicBezTo>
                  <a:pt x="3281" y="15891"/>
                  <a:pt x="3527" y="15895"/>
                  <a:pt x="3423" y="15677"/>
                </a:cubicBezTo>
                <a:cubicBezTo>
                  <a:pt x="3355" y="15535"/>
                  <a:pt x="3189" y="15611"/>
                  <a:pt x="3076" y="15627"/>
                </a:cubicBezTo>
              </a:path>
              <a:path w="2407" h="3498">
                <a:moveTo>
                  <a:pt x="2803" y="15726"/>
                </a:moveTo>
                <a:cubicBezTo>
                  <a:pt x="2661" y="15767"/>
                  <a:pt x="2632" y="15855"/>
                  <a:pt x="2555" y="15974"/>
                </a:cubicBezTo>
                <a:cubicBezTo>
                  <a:pt x="2666" y="15963"/>
                  <a:pt x="2864" y="15959"/>
                  <a:pt x="2853" y="15801"/>
                </a:cubicBezTo>
                <a:cubicBezTo>
                  <a:pt x="2797" y="15717"/>
                  <a:pt x="2769" y="15692"/>
                  <a:pt x="2679" y="15726"/>
                </a:cubicBezTo>
              </a:path>
              <a:path w="2407" h="3498">
                <a:moveTo>
                  <a:pt x="2108" y="15825"/>
                </a:moveTo>
                <a:cubicBezTo>
                  <a:pt x="2045" y="15834"/>
                  <a:pt x="2011" y="15837"/>
                  <a:pt x="1984" y="15900"/>
                </a:cubicBezTo>
                <a:cubicBezTo>
                  <a:pt x="1939" y="16007"/>
                  <a:pt x="1939" y="15959"/>
                  <a:pt x="1960" y="15949"/>
                </a:cubicBezTo>
                <a:cubicBezTo>
                  <a:pt x="1977" y="15848"/>
                  <a:pt x="2095" y="15914"/>
                  <a:pt x="2158" y="15974"/>
                </a:cubicBezTo>
                <a:cubicBezTo>
                  <a:pt x="2166" y="15991"/>
                  <a:pt x="2175" y="16007"/>
                  <a:pt x="2183" y="16024"/>
                </a:cubicBezTo>
                <a:cubicBezTo>
                  <a:pt x="2134" y="16061"/>
                  <a:pt x="1936" y="16199"/>
                  <a:pt x="1885" y="16098"/>
                </a:cubicBezTo>
                <a:cubicBezTo>
                  <a:pt x="1893" y="16082"/>
                  <a:pt x="1902" y="16065"/>
                  <a:pt x="1910" y="16049"/>
                </a:cubicBezTo>
              </a:path>
              <a:path w="2407" h="3498">
                <a:moveTo>
                  <a:pt x="2034" y="15850"/>
                </a:moveTo>
                <a:cubicBezTo>
                  <a:pt x="2070" y="15802"/>
                  <a:pt x="2210" y="15734"/>
                  <a:pt x="2282" y="15701"/>
                </a:cubicBezTo>
                <a:cubicBezTo>
                  <a:pt x="2307" y="15693"/>
                  <a:pt x="2331" y="15685"/>
                  <a:pt x="2356" y="15677"/>
                </a:cubicBezTo>
              </a:path>
              <a:path w="2407" h="3498">
                <a:moveTo>
                  <a:pt x="3721" y="13171"/>
                </a:moveTo>
                <a:cubicBezTo>
                  <a:pt x="3765" y="13162"/>
                  <a:pt x="3799" y="13152"/>
                  <a:pt x="3845" y="13146"/>
                </a:cubicBezTo>
                <a:cubicBezTo>
                  <a:pt x="3832" y="13238"/>
                  <a:pt x="3810" y="13308"/>
                  <a:pt x="3770" y="13395"/>
                </a:cubicBezTo>
                <a:cubicBezTo>
                  <a:pt x="3873" y="13395"/>
                  <a:pt x="3932" y="13348"/>
                  <a:pt x="4018" y="13295"/>
                </a:cubicBezTo>
              </a:path>
              <a:path w="2407" h="3498">
                <a:moveTo>
                  <a:pt x="2282" y="15900"/>
                </a:moveTo>
                <a:cubicBezTo>
                  <a:pt x="2282" y="15931"/>
                  <a:pt x="2287" y="16066"/>
                  <a:pt x="2356" y="16024"/>
                </a:cubicBezTo>
                <a:cubicBezTo>
                  <a:pt x="2370" y="16015"/>
                  <a:pt x="2340" y="15994"/>
                  <a:pt x="2381" y="16049"/>
                </a:cubicBezTo>
                <a:cubicBezTo>
                  <a:pt x="2463" y="15994"/>
                  <a:pt x="2355" y="16049"/>
                  <a:pt x="2431" y="160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85000" y="4367160"/>
            <a:ext cx="285840" cy="133560"/>
          </a:xfrm>
          <a:custGeom>
            <a:avLst/>
            <a:gdLst/>
            <a:ahLst/>
            <a:rect l="l" t="t" r="r" b="b"/>
            <a:pathLst>
              <a:path w="795" h="374">
                <a:moveTo>
                  <a:pt x="19174" y="12129"/>
                </a:moveTo>
                <a:cubicBezTo>
                  <a:pt x="19327" y="12151"/>
                  <a:pt x="19558" y="12210"/>
                  <a:pt x="19447" y="12427"/>
                </a:cubicBezTo>
                <a:cubicBezTo>
                  <a:pt x="19372" y="12575"/>
                  <a:pt x="19221" y="12491"/>
                  <a:pt x="19124" y="12452"/>
                </a:cubicBezTo>
                <a:cubicBezTo>
                  <a:pt x="19223" y="12353"/>
                  <a:pt x="19293" y="12421"/>
                  <a:pt x="19397" y="12502"/>
                </a:cubicBezTo>
              </a:path>
              <a:path w="795" h="374">
                <a:moveTo>
                  <a:pt x="19695" y="12129"/>
                </a:moveTo>
                <a:cubicBezTo>
                  <a:pt x="19670" y="12163"/>
                  <a:pt x="19655" y="12189"/>
                  <a:pt x="19645" y="12229"/>
                </a:cubicBezTo>
                <a:cubicBezTo>
                  <a:pt x="19745" y="12279"/>
                  <a:pt x="19848" y="12308"/>
                  <a:pt x="19918" y="12378"/>
                </a:cubicBezTo>
                <a:cubicBezTo>
                  <a:pt x="19788" y="12508"/>
                  <a:pt x="19822" y="12482"/>
                  <a:pt x="19670" y="123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6760" y="4411800"/>
            <a:ext cx="2278080" cy="679320"/>
          </a:xfrm>
          <a:custGeom>
            <a:avLst/>
            <a:gdLst/>
            <a:ahLst/>
            <a:rect l="l" t="t" r="r" b="b"/>
            <a:pathLst>
              <a:path w="6326" h="1886">
                <a:moveTo>
                  <a:pt x="22374" y="12254"/>
                </a:moveTo>
                <a:cubicBezTo>
                  <a:pt x="22430" y="12375"/>
                  <a:pt x="22485" y="12485"/>
                  <a:pt x="22547" y="12601"/>
                </a:cubicBezTo>
              </a:path>
              <a:path w="6326" h="1886">
                <a:moveTo>
                  <a:pt x="23292" y="12576"/>
                </a:moveTo>
                <a:cubicBezTo>
                  <a:pt x="23139" y="12652"/>
                  <a:pt x="23276" y="12597"/>
                  <a:pt x="23316" y="12576"/>
                </a:cubicBezTo>
              </a:path>
              <a:path w="6326" h="1886">
                <a:moveTo>
                  <a:pt x="16991" y="14114"/>
                </a:moveTo>
                <a:cubicBezTo>
                  <a:pt x="17014" y="14137"/>
                  <a:pt x="17018" y="14145"/>
                  <a:pt x="17041" y="14139"/>
                </a:cubicBezTo>
              </a:path>
              <a:path w="6326" h="1886">
                <a:moveTo>
                  <a:pt x="18083" y="13618"/>
                </a:moveTo>
                <a:cubicBezTo>
                  <a:pt x="17967" y="13771"/>
                  <a:pt x="17924" y="13879"/>
                  <a:pt x="17934" y="14064"/>
                </a:cubicBezTo>
                <a:cubicBezTo>
                  <a:pt x="18091" y="14038"/>
                  <a:pt x="18358" y="13949"/>
                  <a:pt x="18306" y="13717"/>
                </a:cubicBezTo>
                <a:cubicBezTo>
                  <a:pt x="18232" y="13644"/>
                  <a:pt x="18208" y="13619"/>
                  <a:pt x="18132" y="136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49920" y="4857840"/>
            <a:ext cx="341280" cy="268200"/>
          </a:xfrm>
          <a:custGeom>
            <a:avLst/>
            <a:gdLst/>
            <a:ahLst/>
            <a:rect l="l" t="t" r="r" b="b"/>
            <a:pathLst>
              <a:path w="944" h="745">
                <a:moveTo>
                  <a:pt x="16346" y="13543"/>
                </a:moveTo>
                <a:cubicBezTo>
                  <a:pt x="16364" y="13543"/>
                  <a:pt x="16248" y="13480"/>
                  <a:pt x="16148" y="13543"/>
                </a:cubicBezTo>
                <a:cubicBezTo>
                  <a:pt x="16076" y="13615"/>
                  <a:pt x="16043" y="13610"/>
                  <a:pt x="16049" y="13667"/>
                </a:cubicBezTo>
                <a:cubicBezTo>
                  <a:pt x="16183" y="13699"/>
                  <a:pt x="16338" y="13672"/>
                  <a:pt x="16321" y="13841"/>
                </a:cubicBezTo>
                <a:cubicBezTo>
                  <a:pt x="16305" y="13995"/>
                  <a:pt x="16074" y="13953"/>
                  <a:pt x="15999" y="13866"/>
                </a:cubicBezTo>
                <a:cubicBezTo>
                  <a:pt x="15991" y="13841"/>
                  <a:pt x="15982" y="13816"/>
                  <a:pt x="15974" y="13791"/>
                </a:cubicBezTo>
              </a:path>
              <a:path w="944" h="745">
                <a:moveTo>
                  <a:pt x="16173" y="13494"/>
                </a:moveTo>
                <a:cubicBezTo>
                  <a:pt x="16210" y="13669"/>
                  <a:pt x="16222" y="13810"/>
                  <a:pt x="16222" y="13990"/>
                </a:cubicBezTo>
              </a:path>
              <a:path w="944" h="745">
                <a:moveTo>
                  <a:pt x="16570" y="13667"/>
                </a:moveTo>
                <a:cubicBezTo>
                  <a:pt x="16664" y="13637"/>
                  <a:pt x="16808" y="13630"/>
                  <a:pt x="16917" y="13618"/>
                </a:cubicBezTo>
                <a:cubicBezTo>
                  <a:pt x="16896" y="13787"/>
                  <a:pt x="16859" y="13949"/>
                  <a:pt x="16818" y="14114"/>
                </a:cubicBezTo>
                <a:cubicBezTo>
                  <a:pt x="16799" y="14188"/>
                  <a:pt x="16791" y="14195"/>
                  <a:pt x="16793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9960" y="4894200"/>
            <a:ext cx="1620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7587" y="13618"/>
                </a:moveTo>
                <a:cubicBezTo>
                  <a:pt x="17524" y="13618"/>
                  <a:pt x="17459" y="13591"/>
                  <a:pt x="17438" y="13667"/>
                </a:cubicBezTo>
                <a:cubicBezTo>
                  <a:pt x="17416" y="13800"/>
                  <a:pt x="17411" y="13834"/>
                  <a:pt x="17388" y="13915"/>
                </a:cubicBezTo>
                <a:cubicBezTo>
                  <a:pt x="17469" y="13899"/>
                  <a:pt x="17521" y="13819"/>
                  <a:pt x="17611" y="13841"/>
                </a:cubicBezTo>
                <a:cubicBezTo>
                  <a:pt x="17797" y="13888"/>
                  <a:pt x="17741" y="14088"/>
                  <a:pt x="17587" y="14139"/>
                </a:cubicBezTo>
                <a:cubicBezTo>
                  <a:pt x="17418" y="14195"/>
                  <a:pt x="17394" y="14097"/>
                  <a:pt x="17363" y="13990"/>
                </a:cubicBezTo>
              </a:path>
              <a:path w="448" h="547">
                <a:moveTo>
                  <a:pt x="17462" y="13643"/>
                </a:moveTo>
                <a:cubicBezTo>
                  <a:pt x="17507" y="13643"/>
                  <a:pt x="17529" y="13623"/>
                  <a:pt x="17562" y="13618"/>
                </a:cubicBezTo>
                <a:cubicBezTo>
                  <a:pt x="17621" y="13609"/>
                  <a:pt x="17686" y="13603"/>
                  <a:pt x="17735" y="13593"/>
                </a:cubicBezTo>
                <a:cubicBezTo>
                  <a:pt x="17777" y="13593"/>
                  <a:pt x="17785" y="13593"/>
                  <a:pt x="17810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97920" y="41972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22920" y="11658"/>
                </a:moveTo>
                <a:cubicBezTo>
                  <a:pt x="22896" y="11756"/>
                  <a:pt x="22900" y="11681"/>
                  <a:pt x="22994" y="11658"/>
                </a:cubicBezTo>
                <a:cubicBezTo>
                  <a:pt x="23019" y="11658"/>
                  <a:pt x="23043" y="11658"/>
                  <a:pt x="23068" y="11658"/>
                </a:cubicBezTo>
                <a:cubicBezTo>
                  <a:pt x="23144" y="11885"/>
                  <a:pt x="23129" y="11997"/>
                  <a:pt x="22845" y="12005"/>
                </a:cubicBezTo>
                <a:cubicBezTo>
                  <a:pt x="22820" y="11997"/>
                  <a:pt x="22796" y="11989"/>
                  <a:pt x="22771" y="11981"/>
                </a:cubicBezTo>
                <a:cubicBezTo>
                  <a:pt x="22850" y="11848"/>
                  <a:pt x="22944" y="11862"/>
                  <a:pt x="23068" y="11981"/>
                </a:cubicBezTo>
                <a:cubicBezTo>
                  <a:pt x="23112" y="12046"/>
                  <a:pt x="23118" y="12075"/>
                  <a:pt x="23168" y="120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0040" y="416088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3614" y="11559"/>
                </a:moveTo>
                <a:cubicBezTo>
                  <a:pt x="23556" y="11559"/>
                  <a:pt x="23457" y="11533"/>
                  <a:pt x="23440" y="11584"/>
                </a:cubicBezTo>
                <a:cubicBezTo>
                  <a:pt x="23418" y="11651"/>
                  <a:pt x="23414" y="11669"/>
                  <a:pt x="23391" y="11708"/>
                </a:cubicBezTo>
                <a:cubicBezTo>
                  <a:pt x="23540" y="11687"/>
                  <a:pt x="23634" y="11631"/>
                  <a:pt x="23738" y="11782"/>
                </a:cubicBezTo>
                <a:cubicBezTo>
                  <a:pt x="23881" y="11989"/>
                  <a:pt x="23569" y="11993"/>
                  <a:pt x="23465" y="119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82000" y="4394160"/>
            <a:ext cx="442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22572" y="12204"/>
                </a:moveTo>
                <a:cubicBezTo>
                  <a:pt x="22558" y="12332"/>
                  <a:pt x="22448" y="12488"/>
                  <a:pt x="22448" y="12601"/>
                </a:cubicBezTo>
                <a:cubicBezTo>
                  <a:pt x="22456" y="12601"/>
                  <a:pt x="22465" y="12601"/>
                  <a:pt x="22473" y="126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35960" y="4402080"/>
            <a:ext cx="90360" cy="152280"/>
          </a:xfrm>
          <a:custGeom>
            <a:avLst/>
            <a:gdLst/>
            <a:ahLst/>
            <a:rect l="l" t="t" r="r" b="b"/>
            <a:pathLst>
              <a:path w="249" h="422">
                <a:moveTo>
                  <a:pt x="23713" y="12278"/>
                </a:moveTo>
                <a:cubicBezTo>
                  <a:pt x="23729" y="12232"/>
                  <a:pt x="23857" y="12209"/>
                  <a:pt x="23912" y="12229"/>
                </a:cubicBezTo>
                <a:cubicBezTo>
                  <a:pt x="24066" y="12284"/>
                  <a:pt x="23844" y="12423"/>
                  <a:pt x="23812" y="12452"/>
                </a:cubicBezTo>
                <a:cubicBezTo>
                  <a:pt x="23781" y="12452"/>
                  <a:pt x="23883" y="12409"/>
                  <a:pt x="23937" y="12477"/>
                </a:cubicBezTo>
                <a:cubicBezTo>
                  <a:pt x="24041" y="12608"/>
                  <a:pt x="23826" y="12631"/>
                  <a:pt x="23763" y="126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2920" y="4581360"/>
            <a:ext cx="573120" cy="54000"/>
          </a:xfrm>
          <a:custGeom>
            <a:avLst/>
            <a:gdLst/>
            <a:ahLst/>
            <a:rect l="l" t="t" r="r" b="b"/>
            <a:pathLst>
              <a:path w="1588" h="150">
                <a:moveTo>
                  <a:pt x="22399" y="12874"/>
                </a:moveTo>
                <a:cubicBezTo>
                  <a:pt x="22879" y="12808"/>
                  <a:pt x="23356" y="12788"/>
                  <a:pt x="23837" y="12750"/>
                </a:cubicBezTo>
                <a:cubicBezTo>
                  <a:pt x="23931" y="12731"/>
                  <a:pt x="23951" y="12701"/>
                  <a:pt x="23986" y="127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45680" y="4660920"/>
            <a:ext cx="13464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986" y="12948"/>
                </a:moveTo>
                <a:cubicBezTo>
                  <a:pt x="23917" y="12979"/>
                  <a:pt x="23779" y="12999"/>
                  <a:pt x="23763" y="13072"/>
                </a:cubicBezTo>
                <a:cubicBezTo>
                  <a:pt x="23763" y="13097"/>
                  <a:pt x="23763" y="13105"/>
                  <a:pt x="23763" y="13122"/>
                </a:cubicBezTo>
                <a:cubicBezTo>
                  <a:pt x="23801" y="13178"/>
                  <a:pt x="23934" y="13156"/>
                  <a:pt x="24011" y="13171"/>
                </a:cubicBezTo>
                <a:cubicBezTo>
                  <a:pt x="24036" y="13179"/>
                  <a:pt x="24060" y="13188"/>
                  <a:pt x="24085" y="13196"/>
                </a:cubicBezTo>
                <a:cubicBezTo>
                  <a:pt x="24097" y="13331"/>
                  <a:pt x="24011" y="13441"/>
                  <a:pt x="23837" y="13419"/>
                </a:cubicBezTo>
                <a:cubicBezTo>
                  <a:pt x="23741" y="13372"/>
                  <a:pt x="23708" y="13359"/>
                  <a:pt x="23738" y="132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6840" y="3946680"/>
            <a:ext cx="9360" cy="152280"/>
          </a:xfrm>
          <a:custGeom>
            <a:avLst/>
            <a:gdLst/>
            <a:ahLst/>
            <a:rect l="l" t="t" r="r" b="b"/>
            <a:pathLst>
              <a:path w="26" h="422">
                <a:moveTo>
                  <a:pt x="23044" y="10964"/>
                </a:moveTo>
                <a:cubicBezTo>
                  <a:pt x="23020" y="11107"/>
                  <a:pt x="23019" y="11239"/>
                  <a:pt x="23019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0" y="468000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969" y="13022"/>
                </a:moveTo>
                <a:cubicBezTo>
                  <a:pt x="22969" y="13074"/>
                  <a:pt x="22970" y="13092"/>
                  <a:pt x="22994" y="13122"/>
                </a:cubicBezTo>
                <a:cubicBezTo>
                  <a:pt x="23013" y="13025"/>
                  <a:pt x="23047" y="13005"/>
                  <a:pt x="23143" y="12998"/>
                </a:cubicBezTo>
                <a:cubicBezTo>
                  <a:pt x="23204" y="12993"/>
                  <a:pt x="23384" y="12958"/>
                  <a:pt x="23366" y="13072"/>
                </a:cubicBezTo>
                <a:cubicBezTo>
                  <a:pt x="23344" y="13217"/>
                  <a:pt x="23254" y="13346"/>
                  <a:pt x="23242" y="13494"/>
                </a:cubicBezTo>
                <a:cubicBezTo>
                  <a:pt x="23242" y="13502"/>
                  <a:pt x="23242" y="13511"/>
                  <a:pt x="23242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85160" y="4384800"/>
            <a:ext cx="17640" cy="125280"/>
          </a:xfrm>
          <a:custGeom>
            <a:avLst/>
            <a:gdLst/>
            <a:ahLst/>
            <a:rect l="l" t="t" r="r" b="b"/>
            <a:pathLst>
              <a:path w="50" h="348">
                <a:moveTo>
                  <a:pt x="24730" y="12179"/>
                </a:moveTo>
                <a:cubicBezTo>
                  <a:pt x="24730" y="12281"/>
                  <a:pt x="24694" y="12376"/>
                  <a:pt x="24681" y="12477"/>
                </a:cubicBezTo>
                <a:cubicBezTo>
                  <a:pt x="24681" y="12493"/>
                  <a:pt x="24681" y="12510"/>
                  <a:pt x="24681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47040" y="4848120"/>
            <a:ext cx="27000" cy="27000"/>
          </a:xfrm>
          <a:custGeom>
            <a:avLst/>
            <a:gdLst/>
            <a:ahLst/>
            <a:rect l="l" t="t" r="r" b="b"/>
            <a:pathLst>
              <a:path w="76" h="75">
                <a:moveTo>
                  <a:pt x="23515" y="13519"/>
                </a:moveTo>
                <a:cubicBezTo>
                  <a:pt x="23495" y="13439"/>
                  <a:pt x="23452" y="13500"/>
                  <a:pt x="23465" y="13543"/>
                </a:cubicBezTo>
                <a:cubicBezTo>
                  <a:pt x="23473" y="13543"/>
                  <a:pt x="23482" y="13543"/>
                  <a:pt x="23490" y="13543"/>
                </a:cubicBezTo>
                <a:cubicBezTo>
                  <a:pt x="23571" y="13444"/>
                  <a:pt x="23485" y="13480"/>
                  <a:pt x="23490" y="13494"/>
                </a:cubicBezTo>
                <a:cubicBezTo>
                  <a:pt x="23515" y="13494"/>
                  <a:pt x="23523" y="13494"/>
                  <a:pt x="23515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40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Budget Activities…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Family Budg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try algebra style for a challeng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ClassZ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Chapter 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17T17:31:18Z</dcterms:modified>
  <cp:revision>28</cp:revision>
  <dc:subject/>
  <dc:title>Unit 1 – Variables and Equations </dc:title>
</cp:coreProperties>
</file>